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652-8B4B-462D-883E-B75B1493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BE0-2DC0-4FFD-900A-EC65309A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D4A-5693-49EC-94F3-8E701128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53E-2DAE-42B3-9BD0-32FF2F12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C50B-C711-46D9-8D5B-C9C60F39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E6C2-D2FB-4C54-B05F-86A490CC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B701-2192-4EAD-8F1E-04638D8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0E44-27CB-496D-BC10-C226C4E1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0627-8C16-4CF9-9EBD-48F54C00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8FF2-D676-4E21-A328-EB74E0AC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8C3E-A848-4FA9-8833-D232A7C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51C-AC5F-43F3-BA65-BF1DD79E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2030B-36B3-4621-A3CD-66E6A70E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475A-42A6-4F30-B85B-1BCAD85F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D19B-771D-449C-8CFF-DFC3AE5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B3D0-AB23-4771-910C-3541A298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C5C2-C24D-44F7-ADCF-C0CC3B2E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1F053-7DF1-452A-B0D0-78A46A8E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D8801-6891-4461-803F-F80E447E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1E288-EA6F-4245-97E9-414493DB6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533F0-6FAE-4528-BAB6-C9F63FDB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1CA84-D2B6-4281-93ED-22095584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C18-036A-4F8B-A27E-9F08CE1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03061-39AE-42F5-A184-D92A3C2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6973D-906A-49AC-89EC-D530054A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85784-CE92-4CC9-BCDF-ABCFF8EE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6557F-48B8-4AB1-9B99-2B15119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B989A-D254-4595-BC3A-FAD2144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B06E8-05B4-423D-82EF-508BA8A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A6AB65-007D-4AC8-A08F-9218BBAE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2CC672-9847-4FB7-AE7D-625DA57B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D5DBB-8C9C-411A-9FDC-F9A76B8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10D9D5-41D8-46D9-944E-BFC818E1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139-CA5F-49BF-AD02-B8D8BEF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F8656A-88D7-492F-B192-E678D16D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1AFEB-D19D-4E0F-9573-45C5CD58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C633D-F3BE-4C21-9265-99804DB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E5B320-7B8E-4164-99B5-D0FF9C4E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4AEA1-EA20-434A-99D8-13BED56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E3E4C-4E47-4719-8E92-AAD5D850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4A79A-13A3-472F-A6E0-67EE76DE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273978-DC60-4231-ACC7-9DBC6FF39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1A2FE-7005-4C05-AA87-EBE912F4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00D073-94DA-4E82-9D05-628B1608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D7E-187D-46CB-81F8-BD376EA8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4CC9B2-8EAE-46F8-A70C-CA35E086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DBDBB-6033-41FF-B8B7-87E479A6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447B62-4B78-4C63-BBF2-9BDCA93D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FCEDB5-EAE9-497A-8E12-5A7D34E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89457-9EEA-414B-8282-983AFAF3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4F179-8B69-436B-BD15-3886AF5D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B5117-501E-4854-BE9F-BA207B4C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8C42D-126D-49C5-A6B0-3ED0A636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3A5592-8B27-49EF-B209-84AE00F7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3149D-253F-49F1-9EEF-36086BA8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917-E679-4D8F-B434-0E31CEE5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0C4B8-D35A-47AD-9C19-46ACDF48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DC856-8A2F-4470-AD15-FEBED15D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13769-69DE-41E2-9FB5-309E81A8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5AAC-B453-4F9C-AF89-5A0F6A71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C90B0-1B9D-475C-A64C-3D39ABDE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846E-1057-4535-94AC-58A1704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1DF4C-7D27-4113-94AF-CBD7960C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10F8-5BD9-442A-BB17-9F4CF18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C198-4425-4E7E-9340-CC621BC4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292C-F6B4-44FC-BF0A-449DDD36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F8C-6781-4D9C-A1F4-9249A292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A1A60-F1E0-4DBE-9FE6-F56AF072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D675D-7DCE-45AE-9CF0-9A42E9FB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48BB5-A108-4500-931D-A5DCF76E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40231-790B-4A7C-9BE5-9B638E39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80787-D7C8-4038-9A2B-75F7A41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F2CEF-F671-4972-924D-70672751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5FD641-D351-4CC5-AA2E-357F4C64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C19D9-0262-4843-8E0F-CC75DE93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9CF5E-C65F-4426-B9FB-7022579D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48AAD-7540-4496-AE51-87ABD0A0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EB43-687B-45DC-A5BB-C1726524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1A2FB6-7D84-4D46-9049-C3DF853D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279011-C733-4825-95E7-103E8113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C1736-AAFB-4354-AB00-739D21AE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73963-A43F-4A5A-91AA-9BCD1538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A96A7-87E9-4B2B-9FF6-D6F2C78A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64D06-FDCD-4CD9-B375-C479ED14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33106-A555-4B3D-8B20-B6B92839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422B-4515-411E-831E-A61657F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2ADB6-ADB9-40C6-816E-DB2B1D76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E13C-F78B-4F50-8A82-855C25AA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985-6728-4765-ADAA-34B18B5D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86119-3CF1-4D33-8F61-D774A264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3AB19-1D39-470C-87FD-EB0D7473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F48AF-595E-48BA-8B11-9D52DBBF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3878-8948-4A26-8896-902559B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C013E-2653-4262-8E59-9390994B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03708-DD8E-41C3-BEF9-D477D10C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339AE-47F4-432E-96A4-D661BC35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F576-97D1-4208-A9E5-36E988C7B1D0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D3F0-625A-47A9-BBE6-6BE326614E24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64A5-B106-4D42-BBC4-56132FF9DBAF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F91D-6ADD-4F35-B961-0B5AA1CC4482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B41-CDC7-45B3-8DC2-D5A48F19F13B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A973-4DE1-4DE5-B73B-10A49451DB1F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DBB7-6D6A-457A-9498-91CB5A7289CB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E300-036A-45E9-A2D9-9DDCAF8FF12A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4F03-2902-4647-A95D-88B469B351C8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B9E-8E44-45F6-99E6-264C39D77780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B45D-1B75-4F1C-8D36-ADE95BBF7272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B5E-6C2D-4A01-8BA3-C8D7E10DB313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8AC9-1498-41DC-B433-E03121C2C7A1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DD37-02AF-494C-A09B-79917FE9CCA8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E95-B277-494B-8E64-77F751A776E1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160B-8CED-48A0-B237-DDE9EEDC9569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5572440" cy="17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CODAGE NOMBRES ET TEXTE ?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869-5F77-4451-B284-ED61570442A7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Pla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Principe du codag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Codage des lett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9EAD-1865-4599-BECE-0095B8DA9A2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68580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w Cen MT"/>
              </a:rPr>
              <a:t>Principes généraux de codage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785960"/>
            <a:ext cx="8153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Il y a près de deux siècles, Samuel Morse [1791-1872] nous montrait, avec un certain succès, la manière de coder tout un alphabet uniquement à l'aide de deux symboles: un point et un trait.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Logiquement, la chose ne devrait pas présenter trop de problème avec des "1" et des "0", ce que démontra d'ailleurs l'ingénieur français Emile Baudot [1845-1903] dès 1870 avec brio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De fait, le principe général du codage binaire du texte est désarmant d'évidence: à chaque caractère que l'on veut coder, on associe un nombre donné, toujours identique.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our mener à bien cette numérisation, trois éléments s'avèrent nécessaire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 jeu de caractères (character set), ou répertoire (repertoire) , décrivant tous les caractères que l'on désire pouvoir utiliser,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e table de référence (character map), attribuant à chaque caractère du répertoire un code numérique unique,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e technique d'encodage (encoding), permettant de transformer le code numérique de chaque caractère sous forme binaire, c'est-à-dire d'octet(s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D0D0-73A8-4E8A-AC67-2DA9F5DAA64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Samuel Morse"/>
          <p:cNvPicPr/>
          <p:nvPr/>
        </p:nvPicPr>
        <p:blipFill>
          <a:blip r:embed="rId1"/>
          <a:stretch/>
        </p:blipFill>
        <p:spPr>
          <a:xfrm>
            <a:off x="0" y="0"/>
            <a:ext cx="1143000" cy="1257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Emile Baudot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42960" y="1785600"/>
            <a:ext cx="81532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rès longtemps, la table de référence la plus utilisée en informatique fut la table ASCII (American Standard Code for Information Interchange), table compilant un jeu de 128 caractères ci-dessous décrit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ette relative petitesse de la table ASCII avait néanmoins l'avantage de rendre aisé l'encodage de ses caractères, chacun pouvant être transcrit sous la forme d'un unique octet sans instruction particulièr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F3D9-27C1-424B-AE6C-6AC03684FE8D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tte table, véritable légende de l'informatique médiévale, appelle illico quelques commentaires bien senti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66D2-7B4C-4E1C-B82A-8596B2C6F052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00040" y="1500120"/>
          <a:ext cx="8143920" cy="4664160"/>
        </p:xfrm>
        <a:graphic>
          <a:graphicData uri="http://schemas.openxmlformats.org/drawingml/2006/table">
            <a:tbl>
              <a:tblPr/>
              <a:tblGrid>
                <a:gridCol w="479520"/>
                <a:gridCol w="479520"/>
                <a:gridCol w="477720"/>
                <a:gridCol w="479520"/>
                <a:gridCol w="479160"/>
                <a:gridCol w="479520"/>
                <a:gridCol w="477720"/>
                <a:gridCol w="479520"/>
                <a:gridCol w="479520"/>
                <a:gridCol w="479520"/>
                <a:gridCol w="477720"/>
                <a:gridCol w="479520"/>
                <a:gridCol w="479160"/>
                <a:gridCol w="479520"/>
                <a:gridCol w="477720"/>
                <a:gridCol w="479520"/>
                <a:gridCol w="47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[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xtension d'un bit: les tables ASCII étend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es successives générations d'ordinateurs et, dans le même temps, les dispositifs de transmission numérique gagnant en fiabilité, le bit de parité perdait peu à peu de son utilité et l'idée de le dédier comme ses sept autres collègues au codage proprement dit laissait augurer de nouvelles tables de référence deux fois plus vast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a table ASCII étant devenue incontournable, il n'était pas question de bouleverser les 128 codes déjà assignés mais simplement d'ajouter à ceux-ci 128 autres caractères qui permettraient ainsi d'obtenir des tables ASCII étendu (Extended ASCII), totalement compatibles avec leur aïeu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tte table, véritable légende de l'informatique médiévale, appelle illico quelques commentaires bien senti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103B-5651-4663-BC25-3E875B96FB23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es tables d'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n 1981, une petite société américaine du nom d'IBM s'apprête à engranger du dollar en lançant son dernier bébé: le PC-AT, ordinateur révolutionnaire dont l'une des caractéristiques qui nous intéresse plus particulièrement ici est l'adoption, pour la première fois, d'une table de référence par défaut codée sur huit bit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Dans le sillage d'IBM, une autre petite société du nom de Microsoft est sollicitée afin de fournir une interface logicielle à la bête. Celle-ci crée donc pour l'occasion une application originale qu'elle baptise DOS (Disk Operating System), ou, pour parler en ASCII-FR, système d'exploitation de disqu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rmi les fonctionnalités du DOS, la très agréable possibilité de charger au démarrage de la machine une table de référence de son choix, permettant ainsi à chaque utilisateur de retrouver son alphabet national ainsi que tous ses caractères spécifiqu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8FA5-F675-4A44-A8AA-FFC3EC606C8C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es tables d'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A cette fin, différentes tables de référence, baptisées pour l'occasion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ges de code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odepage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) furent mises au point, de manière plus ou moins pertinente et linguistiquement sensé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Ainsi, tandis que la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ge de code 437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, également baptisé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xtended ASCII OEM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(Original Equipment Manufacturer) constituait la page de code par défaut, nous, heureux Européens occidentaux, nous voyions proposée la codepage 850, dite "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ultilingual latin-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A2C6-7B49-454E-9241-7233795B83DC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5-03T13:14:05Z</dcterms:modified>
  <cp:revision>83</cp:revision>
  <dc:subject/>
  <dc:title>Tracker solaire</dc:title>
</cp:coreProperties>
</file>