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2FA-F4BA-4837-A1BC-53525F61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3D6-0308-436A-A1CF-158FAF4D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577-D1D1-4535-B0D6-7DCECB28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68CA-B065-41F1-8757-9E392C3BF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BBBD-12D5-4DAD-AE98-4C7C7A82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1D3C-DCA2-4E57-B8BA-8AC06A20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41F3-F9B4-4616-BE89-F014D9C7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6A4A-AAC8-45A9-8EF5-364ED722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3B8B-8E0D-425D-BD4B-F02F23F5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AE87-BC57-44F9-8C1B-2347080A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8657-6EE1-4110-B003-1356A764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623-1BEC-4609-A03A-BD0C24A8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DDF5-EEC0-4E6F-9DD5-EE184A4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8641-34D7-4974-940E-459C7408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7F29-F3E5-428E-9991-EFFB2A22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5C99-8F52-4ACE-B53A-800E7A18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9F50-906F-427C-B2B2-AC7233A0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E70A7-B63A-4148-8348-360035F5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026370-FCDC-4A16-9E63-47AB0DDF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4E06C-23F6-4432-9F3B-E2C4DF89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B57D9-0313-410D-8812-DD52CE66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007CC1-3ECD-4E4C-A524-91659627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D0F-19A5-494D-ACD0-F1A48836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68DC60-9150-440A-BD0C-FF8B1B5A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AD50E-A393-4519-B889-C0FEE9D4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E51B4-D121-4457-9631-BDD60643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60F65-2EAC-4882-AE2B-A191FFE5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AD785-D4DF-4838-B397-B72B6DB7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2523E7-D29F-4678-BA37-6791DA76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21063-1186-40B6-A95F-B6E6FF05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DF616-701B-4178-A7A5-4F1F5247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88121-F651-4D33-845E-118AD136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62A85-A356-4970-939F-8ED4E606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4BCF-A89A-46EF-8068-05C78684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0012F-C859-4A40-BEDB-4BD94770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CE462-C4FC-4712-906B-428B04F1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F96176-1C9D-4EC6-AC77-880DF619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76014-9EBE-4CAE-A5C4-B15A1EC2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2B8BB1-550B-40CF-B0E2-EC1E7DC3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72866-70B6-4ECC-8FB8-90DE2449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E18457-6ED0-4080-8FF7-D7289BD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D6C981-285C-4768-8342-F2D825F52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C759E7-213A-4742-88C7-E23FF6CA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1BFF5D-808A-44F3-9080-31721FB1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E10-7DB6-4BA2-90AF-213798BB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1F91B-2006-4118-BB01-D9CCD978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794328-D644-4816-A29B-444EC86B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1300A-1DE4-47FD-BA8D-95158812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581285-6D7D-426C-B9F4-D90FAE2E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A2D084-BE80-4869-AA68-C3838F6B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6FE83-E3A1-4BAA-8A75-0C0C7768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A8015-883D-4AA1-B9E7-C6351084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E8940-1F27-4B3F-AEE5-21C624BB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938B3-2FEF-413B-9C34-C54D58EA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07618A-D456-4A16-91AC-640D564A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871-77C3-4C94-923A-ABC8CD68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3C2A6-287E-4BA6-B20E-BACADBC0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9F56A-1DAC-45E0-BA6D-6B17FA99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21DBE-9799-4865-8FCA-0BA2BB29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73D29-684B-432E-A291-9C612E79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CF5E3-252D-461E-99B2-D503383C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B0355-8FB6-4318-BEE3-251B60E2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DE6E-024D-465C-9B16-077BEDE0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CEB0D-CC29-4C26-B7F2-56816B83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A7614-BCDE-4EE1-B416-0D285908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E817C-4D24-4763-B948-649640DA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B72-A125-481E-9DE6-78708059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7F293-D586-44E8-AD24-ECD65565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315EC-D495-4028-9687-D999AF32F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5D187-26B7-48AF-9823-D4C945F0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3AE71-8922-4B2C-ACA0-3EAF5F20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C3752-4912-4B9D-9620-9097C28B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69AC4-536C-4898-B5FE-0CF5807E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B8FA1-061F-4908-9181-2F606A32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F8531-26F8-42A1-994A-8F614E74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7F5E59-7B12-4770-9E05-62BC184C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C11356-5B3E-415A-A659-BBDF5DDC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3B09-2AF3-44D9-84DB-92C907DB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82FF0-B155-47D8-B3BE-C462E466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650B9B-FA90-40A8-B933-55113A25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E558B5-3DAA-4D23-9679-30EA1A75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11A33-CF1F-4AF9-8685-3B662FFC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C5EF9-9FB0-4878-9329-F99D8364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7E744-6D2A-4731-ACD2-28ABC22E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EAB3E-5BDD-4F61-9EC6-E69AF230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277AE-6B5D-4031-A061-E52CAE47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45EF2-63DB-49C9-BC3D-2EA3ECD3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E57EA-460B-4047-BEDC-D00B19B0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E5DE-9AA6-42AE-8389-AFB266A7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EA11D-4B2B-47E5-BD62-D9BA634D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4144C-30F1-43F2-8981-FABCC1DB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A26CC-3783-43F3-979E-BB0D5BDC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F40C3-13CB-4059-8C1D-FF64D12F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BAD03-1302-44A4-80D5-6EF9685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78832-6C15-4CC7-9487-F19695CB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17351-9605-4C7C-B45B-2A5FEA13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E5D9-FCE2-4ACF-8BB6-665FD416C480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F770-E57F-40F0-A3C7-7E99014EBBFB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56B1-96BD-410D-8509-BFD4E9797201}" type="datetime">
              <a:rPr b="0" lang="fr-FR" sz="2000" spc="-1" strike="noStrike">
                <a:solidFill>
                  <a:srgbClr val="ffffff"/>
                </a:solidFill>
                <a:latin typeface="Tw Cen MT"/>
              </a:rPr>
              <a:t>28/07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3ded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82BF-9C06-4E1D-9401-73A4D7B1D354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76AC-636D-4C7C-8EB9-FF3CABB01334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5AC6-3233-4A4F-B06B-5F1C2C5A8A8B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2280-1FB4-44E4-B935-5B501D36E667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2D44-A020-49EB-9E42-9C2E843DE9F5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B8B4-3AE7-4B2D-B7EE-7C0D22AFB577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5E5B-C7D0-4D43-B152-4D27963E43F9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89B7-D611-41B6-9AA6-9344DED22F05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E963-E4B4-470D-86F6-5C751AC23D52}" type="slidenum">
              <a:rPr b="1" lang="fr-FR" sz="1400" spc="-1" strike="noStrike">
                <a:solidFill>
                  <a:srgbClr val="323232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908D-FA5B-46E6-A98F-3CFD0C523AC9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BCA8-4679-4DDE-8FC6-1326E62D862F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D646-FA8D-44EE-A190-CD31FA04200E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72C1-06A9-498E-A717-7A743E183FE4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28920" y="2571480"/>
            <a:ext cx="464328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ded1"/>
                </a:solidFill>
                <a:latin typeface="Tw Cen MT"/>
              </a:rPr>
              <a:t>INFORMATIQUE ?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w Cen MT"/>
              </a:rPr>
              <a:t>Présentation de l informatique 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857160"/>
            <a:ext cx="91440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5"/>
          <p:cNvSpPr/>
          <p:nvPr/>
        </p:nvSpPr>
        <p:spPr>
          <a:xfrm>
            <a:off x="2428920" y="6215040"/>
            <a:ext cx="65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w Cen MT"/>
              </a:rPr>
              <a:t>Spécialité ISN                                           Année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6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A9D3-8DCB-41BC-82F3-0EA2B27545F7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295280" cy="752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2960" y="4857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3"/>
          <a:stretch/>
        </p:blipFill>
        <p:spPr>
          <a:xfrm>
            <a:off x="6357960" y="7142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215A-3260-41AB-AA4B-ED37761AC384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itre 1"/>
          <p:cNvSpPr/>
          <p:nvPr/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72151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4D09-EC82-46BF-A849-15719BE54DE7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tre 1"/>
          <p:cNvSpPr/>
          <p:nvPr/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7155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3E4D-1EFF-430C-90E5-DDBEA5DC09EB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tre 1"/>
          <p:cNvSpPr/>
          <p:nvPr/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072200" cy="48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Métiers de l’informatiqu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7361-3086-4936-A7F8-1C47A7EF7F3E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7305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Métiers de l’informatiqu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0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44C2-849B-43A6-9197-7E94E8378739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228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Formation de l informatique 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5592-2561-4431-929A-A026A9581AA0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3143160" y="2286000"/>
            <a:ext cx="2681280" cy="1447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2619360" cy="1785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3"/>
          <a:stretch/>
        </p:blipFill>
        <p:spPr>
          <a:xfrm>
            <a:off x="6000840" y="157176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"/>
          <p:cNvPicPr/>
          <p:nvPr/>
        </p:nvPicPr>
        <p:blipFill>
          <a:blip r:embed="rId4"/>
          <a:stretch/>
        </p:blipFill>
        <p:spPr>
          <a:xfrm>
            <a:off x="214200" y="4000680"/>
            <a:ext cx="3532320" cy="2571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"/>
          <p:cNvPicPr/>
          <p:nvPr/>
        </p:nvPicPr>
        <p:blipFill>
          <a:blip r:embed="rId5"/>
          <a:stretch/>
        </p:blipFill>
        <p:spPr>
          <a:xfrm>
            <a:off x="4572000" y="4214880"/>
            <a:ext cx="3718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Formation de l informatique 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5659-2F8E-4ED3-897D-034D32B3A5C8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3190680" cy="1928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2"/>
          <a:stretch/>
        </p:blipFill>
        <p:spPr>
          <a:xfrm>
            <a:off x="4357800" y="2000160"/>
            <a:ext cx="2946240" cy="1590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3"/>
          <a:stretch/>
        </p:blipFill>
        <p:spPr>
          <a:xfrm>
            <a:off x="5000760" y="4286160"/>
            <a:ext cx="3336840" cy="164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"/>
          <p:cNvPicPr/>
          <p:nvPr/>
        </p:nvPicPr>
        <p:blipFill>
          <a:blip r:embed="rId4"/>
          <a:stretch/>
        </p:blipFill>
        <p:spPr>
          <a:xfrm>
            <a:off x="1071720" y="3929040"/>
            <a:ext cx="3531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Pla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Introduc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Métiers de l informatiqu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Formation de l informatiqu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B4B0-43BF-4C5D-B379-C3F204F402FB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5929200" y="1928880"/>
            <a:ext cx="2495520" cy="1714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"/>
          <p:cNvPicPr/>
          <p:nvPr/>
        </p:nvPicPr>
        <p:blipFill>
          <a:blip r:embed="rId2"/>
          <a:stretch/>
        </p:blipFill>
        <p:spPr>
          <a:xfrm>
            <a:off x="1500120" y="421488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"/>
          <p:cNvPicPr/>
          <p:nvPr/>
        </p:nvPicPr>
        <p:blipFill>
          <a:blip r:embed="rId3"/>
          <a:stretch/>
        </p:blipFill>
        <p:spPr>
          <a:xfrm>
            <a:off x="4572000" y="428616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"/>
          <p:cNvPicPr/>
          <p:nvPr/>
        </p:nvPicPr>
        <p:blipFill>
          <a:blip r:embed="rId4"/>
          <a:stretch/>
        </p:blipFill>
        <p:spPr>
          <a:xfrm>
            <a:off x="6715080" y="41432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1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F0C6-E39B-4BF0-967E-EE552E905793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5840" y="2786040"/>
            <a:ext cx="2847960" cy="1600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6143760" y="185724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"/>
          <p:cNvPicPr/>
          <p:nvPr/>
        </p:nvPicPr>
        <p:blipFill>
          <a:blip r:embed="rId3"/>
          <a:stretch/>
        </p:blipFill>
        <p:spPr>
          <a:xfrm>
            <a:off x="3286080" y="200016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"/>
          <p:cNvPicPr/>
          <p:nvPr/>
        </p:nvPicPr>
        <p:blipFill>
          <a:blip r:embed="rId4"/>
          <a:stretch/>
        </p:blipFill>
        <p:spPr>
          <a:xfrm>
            <a:off x="6643800" y="3929040"/>
            <a:ext cx="1733400" cy="2514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5"/>
          <a:stretch/>
        </p:blipFill>
        <p:spPr>
          <a:xfrm>
            <a:off x="3286080" y="4357800"/>
            <a:ext cx="2438280" cy="1876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"/>
          <p:cNvPicPr/>
          <p:nvPr/>
        </p:nvPicPr>
        <p:blipFill>
          <a:blip r:embed="rId6"/>
          <a:stretch/>
        </p:blipFill>
        <p:spPr>
          <a:xfrm>
            <a:off x="1285920" y="4643280"/>
            <a:ext cx="1095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9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474C-88B2-4422-A436-CE893C5FB688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1722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2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A3C2-4F16-4997-BE96-BB8F32166055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6661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5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2D5C-C7E4-4D97-B590-E59AF0928E09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789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8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864D-1914-46D5-BC48-7F2E332BB7CD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73562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1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D8CC-55DC-4B6B-BEE3-702A81D11016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9E2B-ABCF-4660-B0C5-E0E654740059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7643880" cy="4500720"/>
          </a:xfrm>
          <a:prstGeom prst="rect">
            <a:avLst/>
          </a:prstGeom>
          <a:ln w="0">
            <a:noFill/>
          </a:ln>
        </p:spPr>
      </p:pic>
      <p:sp>
        <p:nvSpPr>
          <p:cNvPr id="406" name="Titre 1"/>
          <p:cNvSpPr/>
          <p:nvPr/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36:47Z</dcterms:created>
  <dc:creator>Claire</dc:creator>
  <dc:description/>
  <dc:language>en-US</dc:language>
  <cp:lastModifiedBy>Proprietaire</cp:lastModifiedBy>
  <dcterms:modified xsi:type="dcterms:W3CDTF">2012-04-30T12:06:40Z</dcterms:modified>
  <cp:revision>52</cp:revision>
  <dc:subject/>
  <dc:title>Tracker solaire</dc:title>
</cp:coreProperties>
</file>