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2320-AA5B-496C-9701-CAD85E13D5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AE06-2591-4FA5-AB05-3BB6FFE233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CE9A-6432-4E88-BC9B-3270A9420D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FADC-E462-4033-A5C9-9B5EE49F8B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A021-BC28-4559-B17F-65BD139818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1D04-493C-4537-9F8E-2BAF3C06B4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ED3D-8513-4C24-BFE8-06A1E653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3FC-DDEC-4190-8591-F567BD8E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10C-BAF2-4255-8EF4-8310CC9D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82A-C52D-4CD6-9C8E-2F3A8446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BE19-44F2-4D41-AD75-A1A68317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BE2A-C598-45ED-9D84-2694569E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437F-C192-4EC2-9698-E9F8B250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746-434A-428B-A5C7-74862602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32DA-F271-44FA-9E33-1CDE65A6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4EC8-3893-4B34-B6D4-F02B4DE1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2522-8B69-4BBD-967B-656C26B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BDD-E941-45D8-B3BE-485A06EF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A8A9-74E3-4383-8D24-3FAC18D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8CD7-3050-416B-A874-5C1F46A1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8E13-7554-4A24-81AC-1A5BFD2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5553-2186-442C-B4B6-C8809666C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D06F-CB9B-4AB6-AE38-A6CFB519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051-D28A-46C5-9CF9-46FDD80D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17B-A405-4112-88C6-8A28E8F8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DF8-97B2-43E9-8164-576C6AB0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06B-BB95-4A83-A7DC-89C82B4C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5C6-BC13-41E2-9126-A096F430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A4D-44B2-43ED-AE80-E8F73EB9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53A-CEDB-4811-9740-F9D5F2D7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7490-6602-469C-A8A0-2AEF15DB9E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rondir un rectangle avec un coin diagonal 7" descr=""/>
          <p:cNvPicPr/>
          <p:nvPr/>
        </p:nvPicPr>
        <p:blipFill>
          <a:blip r:embed="rId2"/>
          <a:stretch/>
        </p:blipFill>
        <p:spPr>
          <a:xfrm>
            <a:off x="-49320" y="-115920"/>
            <a:ext cx="9242640" cy="871560"/>
          </a:xfrm>
          <a:prstGeom prst="rect">
            <a:avLst/>
          </a:prstGeom>
          <a:ln w="0">
            <a:noFill/>
          </a:ln>
        </p:spPr>
      </p:pic>
      <p:pic>
        <p:nvPicPr>
          <p:cNvPr id="42" name="Image 33" descr="Description : C:\Users\user\Documents\01- Lycée\15-Logos\Nouveau logo\Logo-Benjam-2011-1000px.png"/>
          <p:cNvPicPr/>
          <p:nvPr/>
        </p:nvPicPr>
        <p:blipFill>
          <a:blip r:embed="rId3"/>
          <a:stretch/>
        </p:blipFill>
        <p:spPr>
          <a:xfrm>
            <a:off x="8323200" y="55440"/>
            <a:ext cx="820800" cy="405000"/>
          </a:xfrm>
          <a:prstGeom prst="rect">
            <a:avLst/>
          </a:prstGeom>
          <a:ln w="0">
            <a:noFill/>
          </a:ln>
        </p:spPr>
      </p:pic>
      <p:pic>
        <p:nvPicPr>
          <p:cNvPr id="43" name="Image 9" descr=""/>
          <p:cNvPicPr/>
          <p:nvPr/>
        </p:nvPicPr>
        <p:blipFill>
          <a:blip r:embed="rId4"/>
          <a:stretch/>
        </p:blipFill>
        <p:spPr>
          <a:xfrm>
            <a:off x="0" y="0"/>
            <a:ext cx="501480" cy="51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8A6C-9C69-4B96-A2AE-F0008F240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rchitectur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2048"/>
          <p:cNvSpPr/>
          <p:nvPr/>
        </p:nvSpPr>
        <p:spPr>
          <a:xfrm>
            <a:off x="674640" y="1916280"/>
            <a:ext cx="28656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rnet</a:t>
            </a: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 est un ensemble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 1" descr=""/>
          <p:cNvPicPr/>
          <p:nvPr/>
        </p:nvPicPr>
        <p:blipFill>
          <a:blip r:embed="rId1"/>
          <a:stretch/>
        </p:blipFill>
        <p:spPr>
          <a:xfrm>
            <a:off x="4211640" y="2149560"/>
            <a:ext cx="4373640" cy="437364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8"/>
          <p:cNvSpPr/>
          <p:nvPr/>
        </p:nvSpPr>
        <p:spPr>
          <a:xfrm>
            <a:off x="665280" y="3770280"/>
            <a:ext cx="2865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relié pa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e 3"/>
          <p:cNvGrpSpPr/>
          <p:nvPr/>
        </p:nvGrpSpPr>
        <p:grpSpPr>
          <a:xfrm>
            <a:off x="674640" y="2974320"/>
            <a:ext cx="4905360" cy="689760"/>
            <a:chOff x="674640" y="2974320"/>
            <a:chExt cx="4905360" cy="689760"/>
          </a:xfrm>
        </p:grpSpPr>
        <p:pic>
          <p:nvPicPr>
            <p:cNvPr id="97" name="ZoneTexte 19" descr=""/>
            <p:cNvPicPr/>
            <p:nvPr/>
          </p:nvPicPr>
          <p:blipFill>
            <a:blip r:embed="rId2"/>
            <a:stretch/>
          </p:blipFill>
          <p:spPr>
            <a:xfrm>
              <a:off x="674640" y="2997720"/>
              <a:ext cx="2866320" cy="66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8" name="Connecteur droit avec flèche 5"/>
            <p:cNvCxnSpPr/>
            <p:nvPr/>
          </p:nvCxnSpPr>
          <p:spPr>
            <a:xfrm flipV="1">
              <a:off x="2914560" y="2974320"/>
              <a:ext cx="2665800" cy="304920"/>
            </a:xfrm>
            <a:prstGeom prst="straightConnector1">
              <a:avLst/>
            </a:prstGeom>
            <a:ln w="38160">
              <a:solidFill>
                <a:srgbClr val="7030a0"/>
              </a:solidFill>
              <a:miter/>
              <a:tailEnd len="med" type="arrow" w="med"/>
            </a:ln>
          </p:spPr>
        </p:cxnSp>
      </p:grpSp>
      <p:grpSp>
        <p:nvGrpSpPr>
          <p:cNvPr id="99" name="Groupe 4"/>
          <p:cNvGrpSpPr/>
          <p:nvPr/>
        </p:nvGrpSpPr>
        <p:grpSpPr>
          <a:xfrm>
            <a:off x="665280" y="4149000"/>
            <a:ext cx="4267440" cy="892800"/>
            <a:chOff x="665280" y="4149000"/>
            <a:chExt cx="4267440" cy="892800"/>
          </a:xfrm>
        </p:grpSpPr>
        <p:pic>
          <p:nvPicPr>
            <p:cNvPr id="100" name="ZoneTexte 26" descr=""/>
            <p:cNvPicPr/>
            <p:nvPr/>
          </p:nvPicPr>
          <p:blipFill>
            <a:blip r:embed="rId3"/>
            <a:stretch/>
          </p:blipFill>
          <p:spPr>
            <a:xfrm>
              <a:off x="665280" y="4334760"/>
              <a:ext cx="2864520" cy="707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1" name="Connecteur droit avec flèche 27"/>
            <p:cNvCxnSpPr/>
            <p:nvPr/>
          </p:nvCxnSpPr>
          <p:spPr>
            <a:xfrm flipV="1">
              <a:off x="2627640" y="4149000"/>
              <a:ext cx="2305440" cy="48492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</p:grpSp>
      <p:sp>
        <p:nvSpPr>
          <p:cNvPr id="102" name="Rectangle 11"/>
          <p:cNvSpPr/>
          <p:nvPr/>
        </p:nvSpPr>
        <p:spPr>
          <a:xfrm>
            <a:off x="676440" y="51609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et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e 9"/>
          <p:cNvGrpSpPr/>
          <p:nvPr/>
        </p:nvGrpSpPr>
        <p:grpSpPr>
          <a:xfrm>
            <a:off x="701640" y="5452920"/>
            <a:ext cx="5454720" cy="992160"/>
            <a:chOff x="701640" y="5452920"/>
            <a:chExt cx="5454720" cy="992160"/>
          </a:xfrm>
        </p:grpSpPr>
        <p:pic>
          <p:nvPicPr>
            <p:cNvPr id="104" name="ZoneTexte 30" descr=""/>
            <p:cNvPicPr/>
            <p:nvPr/>
          </p:nvPicPr>
          <p:blipFill>
            <a:blip r:embed="rId4"/>
            <a:stretch/>
          </p:blipFill>
          <p:spPr>
            <a:xfrm>
              <a:off x="701640" y="5727240"/>
              <a:ext cx="2864880" cy="717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5" name="Connecteur droit avec flèche 33"/>
            <p:cNvCxnSpPr/>
            <p:nvPr/>
          </p:nvCxnSpPr>
          <p:spPr>
            <a:xfrm flipV="1">
              <a:off x="2987640" y="5452920"/>
              <a:ext cx="3169080" cy="57636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Masque de réseau : Exercice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33320" y="1844640"/>
          <a:ext cx="7635960" cy="4664160"/>
        </p:xfrm>
        <a:graphic>
          <a:graphicData uri="http://schemas.openxmlformats.org/drawingml/2006/table">
            <a:tbl>
              <a:tblPr/>
              <a:tblGrid>
                <a:gridCol w="4813560"/>
                <a:gridCol w="2822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IP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u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que 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total de bits d’hô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prem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rn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6" name="ZoneTexte 10"/>
          <p:cNvSpPr/>
          <p:nvPr/>
        </p:nvSpPr>
        <p:spPr>
          <a:xfrm>
            <a:off x="5508720" y="2316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Clas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11"/>
          <p:cNvSpPr/>
          <p:nvPr/>
        </p:nvSpPr>
        <p:spPr>
          <a:xfrm>
            <a:off x="5508720" y="28576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5.255.2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2"/>
          <p:cNvSpPr/>
          <p:nvPr/>
        </p:nvSpPr>
        <p:spPr>
          <a:xfrm>
            <a:off x="5524560" y="33796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13"/>
          <p:cNvSpPr/>
          <p:nvPr/>
        </p:nvSpPr>
        <p:spPr>
          <a:xfrm>
            <a:off x="5508720" y="387180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14"/>
          <p:cNvSpPr/>
          <p:nvPr/>
        </p:nvSpPr>
        <p:spPr>
          <a:xfrm>
            <a:off x="5510160" y="43941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5"/>
          <p:cNvSpPr/>
          <p:nvPr/>
        </p:nvSpPr>
        <p:spPr>
          <a:xfrm>
            <a:off x="5508720" y="49179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6"/>
          <p:cNvSpPr/>
          <p:nvPr/>
        </p:nvSpPr>
        <p:spPr>
          <a:xfrm>
            <a:off x="5524560" y="18352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7"/>
          <p:cNvSpPr/>
          <p:nvPr/>
        </p:nvSpPr>
        <p:spPr>
          <a:xfrm>
            <a:off x="5532480" y="544032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8"/>
          <p:cNvSpPr/>
          <p:nvPr/>
        </p:nvSpPr>
        <p:spPr>
          <a:xfrm>
            <a:off x="5559480" y="59929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Masque de réseau : Exercice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33320" y="1844640"/>
          <a:ext cx="7635960" cy="4664160"/>
        </p:xfrm>
        <a:graphic>
          <a:graphicData uri="http://schemas.openxmlformats.org/drawingml/2006/table">
            <a:tbl>
              <a:tblPr/>
              <a:tblGrid>
                <a:gridCol w="4813560"/>
                <a:gridCol w="2822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IP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u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que 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total de bits d’hô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prem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rn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7" name="ZoneTexte 10"/>
          <p:cNvSpPr/>
          <p:nvPr/>
        </p:nvSpPr>
        <p:spPr>
          <a:xfrm>
            <a:off x="5508720" y="2316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Clas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11"/>
          <p:cNvSpPr/>
          <p:nvPr/>
        </p:nvSpPr>
        <p:spPr>
          <a:xfrm>
            <a:off x="5508720" y="28576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5.255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12"/>
          <p:cNvSpPr/>
          <p:nvPr/>
        </p:nvSpPr>
        <p:spPr>
          <a:xfrm>
            <a:off x="5524560" y="33796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13"/>
          <p:cNvSpPr/>
          <p:nvPr/>
        </p:nvSpPr>
        <p:spPr>
          <a:xfrm>
            <a:off x="5508720" y="387180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255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14"/>
          <p:cNvSpPr/>
          <p:nvPr/>
        </p:nvSpPr>
        <p:spPr>
          <a:xfrm>
            <a:off x="5580000" y="439416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5"/>
          <p:cNvSpPr/>
          <p:nvPr/>
        </p:nvSpPr>
        <p:spPr>
          <a:xfrm>
            <a:off x="5508720" y="49179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65 5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6"/>
          <p:cNvSpPr/>
          <p:nvPr/>
        </p:nvSpPr>
        <p:spPr>
          <a:xfrm>
            <a:off x="5524560" y="18352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7"/>
          <p:cNvSpPr/>
          <p:nvPr/>
        </p:nvSpPr>
        <p:spPr>
          <a:xfrm>
            <a:off x="5532480" y="544032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8"/>
          <p:cNvSpPr/>
          <p:nvPr/>
        </p:nvSpPr>
        <p:spPr>
          <a:xfrm>
            <a:off x="5559480" y="59929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255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ages 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403280" y="3040200"/>
            <a:ext cx="6726240" cy="25239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e 2"/>
          <p:cNvGrpSpPr/>
          <p:nvPr/>
        </p:nvGrpSpPr>
        <p:grpSpPr>
          <a:xfrm>
            <a:off x="1549440" y="1916280"/>
            <a:ext cx="6910200" cy="1800000"/>
            <a:chOff x="1549440" y="1916280"/>
            <a:chExt cx="6910200" cy="1800000"/>
          </a:xfrm>
        </p:grpSpPr>
        <p:pic>
          <p:nvPicPr>
            <p:cNvPr id="219" name="ZoneTexte 2048" descr=""/>
            <p:cNvPicPr/>
            <p:nvPr/>
          </p:nvPicPr>
          <p:blipFill>
            <a:blip r:embed="rId2"/>
            <a:stretch/>
          </p:blipFill>
          <p:spPr>
            <a:xfrm>
              <a:off x="1549440" y="1916280"/>
              <a:ext cx="679392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ZoneTexte 19" descr=""/>
            <p:cNvPicPr/>
            <p:nvPr/>
          </p:nvPicPr>
          <p:blipFill>
            <a:blip r:embed="rId3"/>
            <a:stretch/>
          </p:blipFill>
          <p:spPr>
            <a:xfrm>
              <a:off x="1613160" y="2455200"/>
              <a:ext cx="6846480" cy="1095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1" name="Connecteur droit avec flèche 14"/>
            <p:cNvCxnSpPr/>
            <p:nvPr/>
          </p:nvCxnSpPr>
          <p:spPr>
            <a:xfrm>
              <a:off x="5505840" y="3079080"/>
              <a:ext cx="1080" cy="637560"/>
            </a:xfrm>
            <a:prstGeom prst="straightConnector1">
              <a:avLst/>
            </a:prstGeom>
            <a:ln w="38160">
              <a:solidFill>
                <a:srgbClr val="7030a0"/>
              </a:solidFill>
              <a:miter/>
              <a:tailEnd len="med" type="arrow" w="med"/>
            </a:ln>
          </p:spPr>
        </p:cxnSp>
      </p:grpSp>
      <p:grpSp>
        <p:nvGrpSpPr>
          <p:cNvPr id="222" name="Groupe 17"/>
          <p:cNvGrpSpPr/>
          <p:nvPr/>
        </p:nvGrpSpPr>
        <p:grpSpPr>
          <a:xfrm>
            <a:off x="1190520" y="4941000"/>
            <a:ext cx="6939000" cy="1810800"/>
            <a:chOff x="1190520" y="4941000"/>
            <a:chExt cx="6939000" cy="1810800"/>
          </a:xfrm>
        </p:grpSpPr>
        <p:pic>
          <p:nvPicPr>
            <p:cNvPr id="223" name="ZoneTexte 31" descr=""/>
            <p:cNvPicPr/>
            <p:nvPr/>
          </p:nvPicPr>
          <p:blipFill>
            <a:blip r:embed="rId4"/>
            <a:stretch/>
          </p:blipFill>
          <p:spPr>
            <a:xfrm>
              <a:off x="1190520" y="5400720"/>
              <a:ext cx="6939000" cy="1351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4" name="Connecteur droit avec flèche 24"/>
            <p:cNvCxnSpPr/>
            <p:nvPr/>
          </p:nvCxnSpPr>
          <p:spPr>
            <a:xfrm flipH="1" flipV="1">
              <a:off x="3789720" y="4941000"/>
              <a:ext cx="480600" cy="5504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</p:grpSp>
      <p:sp>
        <p:nvSpPr>
          <p:cNvPr id="225" name="Freeform 11"/>
          <p:cNvSpPr/>
          <p:nvPr/>
        </p:nvSpPr>
        <p:spPr>
          <a:xfrm>
            <a:off x="1422360" y="3005280"/>
            <a:ext cx="3355920" cy="257940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2579400"/>
              <a:gd name="textAreaBottom" fmla="*/ 2579400 h 2579400"/>
            </a:gdLst>
            <a:ahLst/>
            <a:rect l="textAreaLeft" t="textAreaTop" r="textAreaRight" b="textAreaBottom"/>
            <a:pathLst>
              <a:path w="2114" h="1625">
                <a:moveTo>
                  <a:pt x="2052" y="215"/>
                </a:moveTo>
                <a:cubicBezTo>
                  <a:pt x="2053" y="223"/>
                  <a:pt x="2056" y="231"/>
                  <a:pt x="2056" y="239"/>
                </a:cubicBezTo>
                <a:cubicBezTo>
                  <a:pt x="2056" y="477"/>
                  <a:pt x="2114" y="494"/>
                  <a:pt x="1944" y="503"/>
                </a:cubicBezTo>
                <a:cubicBezTo>
                  <a:pt x="1918" y="506"/>
                  <a:pt x="1908" y="506"/>
                  <a:pt x="1888" y="519"/>
                </a:cubicBezTo>
                <a:cubicBezTo>
                  <a:pt x="1883" y="534"/>
                  <a:pt x="1881" y="548"/>
                  <a:pt x="1876" y="563"/>
                </a:cubicBezTo>
                <a:cubicBezTo>
                  <a:pt x="1879" y="625"/>
                  <a:pt x="1868" y="627"/>
                  <a:pt x="1900" y="659"/>
                </a:cubicBezTo>
                <a:cubicBezTo>
                  <a:pt x="1897" y="733"/>
                  <a:pt x="1912" y="755"/>
                  <a:pt x="1852" y="775"/>
                </a:cubicBezTo>
                <a:cubicBezTo>
                  <a:pt x="1848" y="793"/>
                  <a:pt x="1850" y="801"/>
                  <a:pt x="1832" y="807"/>
                </a:cubicBezTo>
                <a:cubicBezTo>
                  <a:pt x="1813" y="826"/>
                  <a:pt x="1797" y="849"/>
                  <a:pt x="1776" y="867"/>
                </a:cubicBezTo>
                <a:cubicBezTo>
                  <a:pt x="1759" y="882"/>
                  <a:pt x="1737" y="892"/>
                  <a:pt x="1720" y="907"/>
                </a:cubicBezTo>
                <a:cubicBezTo>
                  <a:pt x="1707" y="918"/>
                  <a:pt x="1705" y="929"/>
                  <a:pt x="1688" y="935"/>
                </a:cubicBezTo>
                <a:cubicBezTo>
                  <a:pt x="1676" y="953"/>
                  <a:pt x="1659" y="968"/>
                  <a:pt x="1644" y="983"/>
                </a:cubicBezTo>
                <a:cubicBezTo>
                  <a:pt x="1633" y="994"/>
                  <a:pt x="1629" y="1010"/>
                  <a:pt x="1620" y="1023"/>
                </a:cubicBezTo>
                <a:cubicBezTo>
                  <a:pt x="1599" y="1055"/>
                  <a:pt x="1579" y="1085"/>
                  <a:pt x="1556" y="1115"/>
                </a:cubicBezTo>
                <a:cubicBezTo>
                  <a:pt x="1550" y="1134"/>
                  <a:pt x="1547" y="1155"/>
                  <a:pt x="1536" y="1171"/>
                </a:cubicBezTo>
                <a:cubicBezTo>
                  <a:pt x="1530" y="1195"/>
                  <a:pt x="1522" y="1223"/>
                  <a:pt x="1508" y="1243"/>
                </a:cubicBezTo>
                <a:cubicBezTo>
                  <a:pt x="1504" y="1258"/>
                  <a:pt x="1497" y="1268"/>
                  <a:pt x="1492" y="1283"/>
                </a:cubicBezTo>
                <a:cubicBezTo>
                  <a:pt x="1482" y="1352"/>
                  <a:pt x="1455" y="1413"/>
                  <a:pt x="1424" y="1475"/>
                </a:cubicBezTo>
                <a:cubicBezTo>
                  <a:pt x="1414" y="1494"/>
                  <a:pt x="1416" y="1513"/>
                  <a:pt x="1396" y="1527"/>
                </a:cubicBezTo>
                <a:cubicBezTo>
                  <a:pt x="1367" y="1546"/>
                  <a:pt x="1337" y="1554"/>
                  <a:pt x="1304" y="1563"/>
                </a:cubicBezTo>
                <a:cubicBezTo>
                  <a:pt x="1286" y="1568"/>
                  <a:pt x="1262" y="1586"/>
                  <a:pt x="1244" y="1587"/>
                </a:cubicBezTo>
                <a:cubicBezTo>
                  <a:pt x="1104" y="1594"/>
                  <a:pt x="1188" y="1590"/>
                  <a:pt x="992" y="1595"/>
                </a:cubicBezTo>
                <a:cubicBezTo>
                  <a:pt x="874" y="1625"/>
                  <a:pt x="750" y="1611"/>
                  <a:pt x="632" y="1587"/>
                </a:cubicBezTo>
                <a:cubicBezTo>
                  <a:pt x="616" y="1577"/>
                  <a:pt x="600" y="1579"/>
                  <a:pt x="584" y="1571"/>
                </a:cubicBezTo>
                <a:cubicBezTo>
                  <a:pt x="552" y="1555"/>
                  <a:pt x="521" y="1540"/>
                  <a:pt x="488" y="1527"/>
                </a:cubicBezTo>
                <a:cubicBezTo>
                  <a:pt x="476" y="1509"/>
                  <a:pt x="449" y="1496"/>
                  <a:pt x="428" y="1491"/>
                </a:cubicBezTo>
                <a:cubicBezTo>
                  <a:pt x="378" y="1458"/>
                  <a:pt x="314" y="1448"/>
                  <a:pt x="268" y="1411"/>
                </a:cubicBezTo>
                <a:cubicBezTo>
                  <a:pt x="241" y="1389"/>
                  <a:pt x="193" y="1352"/>
                  <a:pt x="172" y="1327"/>
                </a:cubicBezTo>
                <a:cubicBezTo>
                  <a:pt x="159" y="1311"/>
                  <a:pt x="149" y="1294"/>
                  <a:pt x="132" y="1283"/>
                </a:cubicBezTo>
                <a:cubicBezTo>
                  <a:pt x="115" y="1257"/>
                  <a:pt x="98" y="1233"/>
                  <a:pt x="80" y="1207"/>
                </a:cubicBezTo>
                <a:cubicBezTo>
                  <a:pt x="62" y="1180"/>
                  <a:pt x="73" y="1209"/>
                  <a:pt x="60" y="1183"/>
                </a:cubicBezTo>
                <a:cubicBezTo>
                  <a:pt x="56" y="1175"/>
                  <a:pt x="52" y="1167"/>
                  <a:pt x="48" y="1159"/>
                </a:cubicBezTo>
                <a:cubicBezTo>
                  <a:pt x="45" y="1151"/>
                  <a:pt x="40" y="1135"/>
                  <a:pt x="40" y="1135"/>
                </a:cubicBezTo>
                <a:cubicBezTo>
                  <a:pt x="39" y="1003"/>
                  <a:pt x="85" y="811"/>
                  <a:pt x="0" y="683"/>
                </a:cubicBezTo>
                <a:cubicBezTo>
                  <a:pt x="5" y="508"/>
                  <a:pt x="3" y="334"/>
                  <a:pt x="8" y="159"/>
                </a:cubicBezTo>
                <a:cubicBezTo>
                  <a:pt x="9" y="140"/>
                  <a:pt x="20" y="124"/>
                  <a:pt x="36" y="119"/>
                </a:cubicBezTo>
                <a:cubicBezTo>
                  <a:pt x="53" y="102"/>
                  <a:pt x="81" y="89"/>
                  <a:pt x="104" y="83"/>
                </a:cubicBezTo>
                <a:cubicBezTo>
                  <a:pt x="228" y="0"/>
                  <a:pt x="499" y="48"/>
                  <a:pt x="572" y="47"/>
                </a:cubicBezTo>
                <a:cubicBezTo>
                  <a:pt x="607" y="35"/>
                  <a:pt x="588" y="40"/>
                  <a:pt x="632" y="35"/>
                </a:cubicBezTo>
                <a:cubicBezTo>
                  <a:pt x="743" y="37"/>
                  <a:pt x="834" y="40"/>
                  <a:pt x="940" y="55"/>
                </a:cubicBezTo>
                <a:cubicBezTo>
                  <a:pt x="969" y="65"/>
                  <a:pt x="1002" y="65"/>
                  <a:pt x="1032" y="71"/>
                </a:cubicBezTo>
                <a:cubicBezTo>
                  <a:pt x="1104" y="85"/>
                  <a:pt x="1178" y="113"/>
                  <a:pt x="1252" y="115"/>
                </a:cubicBezTo>
                <a:cubicBezTo>
                  <a:pt x="1424" y="119"/>
                  <a:pt x="1768" y="123"/>
                  <a:pt x="1768" y="123"/>
                </a:cubicBezTo>
                <a:cubicBezTo>
                  <a:pt x="1824" y="126"/>
                  <a:pt x="1861" y="128"/>
                  <a:pt x="1912" y="139"/>
                </a:cubicBezTo>
                <a:cubicBezTo>
                  <a:pt x="1937" y="144"/>
                  <a:pt x="1960" y="158"/>
                  <a:pt x="1984" y="163"/>
                </a:cubicBezTo>
                <a:cubicBezTo>
                  <a:pt x="2004" y="167"/>
                  <a:pt x="2021" y="169"/>
                  <a:pt x="2040" y="175"/>
                </a:cubicBezTo>
                <a:cubicBezTo>
                  <a:pt x="2047" y="196"/>
                  <a:pt x="2043" y="183"/>
                  <a:pt x="2052" y="2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Exemple d’@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rcRect l="0" t="0" r="0" b="73974"/>
          <a:stretch/>
        </p:blipFill>
        <p:spPr>
          <a:xfrm>
            <a:off x="277920" y="1852560"/>
            <a:ext cx="6535800" cy="150660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" descr=""/>
          <p:cNvPicPr/>
          <p:nvPr/>
        </p:nvPicPr>
        <p:blipFill>
          <a:blip r:embed="rId2"/>
          <a:srcRect l="3061" t="40316" r="4823" b="11647"/>
          <a:stretch/>
        </p:blipFill>
        <p:spPr>
          <a:xfrm>
            <a:off x="739800" y="3549600"/>
            <a:ext cx="7081920" cy="307332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5"/>
          <p:cNvGrpSpPr/>
          <p:nvPr/>
        </p:nvGrpSpPr>
        <p:grpSpPr>
          <a:xfrm>
            <a:off x="1157400" y="2154240"/>
            <a:ext cx="4500360" cy="725400"/>
            <a:chOff x="1157400" y="2154240"/>
            <a:chExt cx="4500360" cy="725400"/>
          </a:xfrm>
        </p:grpSpPr>
        <p:sp>
          <p:nvSpPr>
            <p:cNvPr id="230" name="AutoShape 11"/>
            <p:cNvSpPr/>
            <p:nvPr/>
          </p:nvSpPr>
          <p:spPr>
            <a:xfrm>
              <a:off x="1157400" y="2629080"/>
              <a:ext cx="828720" cy="2505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2746440" y="2154240"/>
              <a:ext cx="2911320" cy="546120"/>
            </a:xfrm>
            <a:prstGeom prst="wedgeRoundRectCallout">
              <a:avLst>
                <a:gd name="adj1" fmla="val -76064"/>
                <a:gd name="adj2" fmla="val 54069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@IP de la liveb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7"/>
          <p:cNvGrpSpPr/>
          <p:nvPr/>
        </p:nvGrpSpPr>
        <p:grpSpPr>
          <a:xfrm>
            <a:off x="174600" y="5241960"/>
            <a:ext cx="6773760" cy="1369800"/>
            <a:chOff x="174600" y="5241960"/>
            <a:chExt cx="6773760" cy="1369800"/>
          </a:xfrm>
        </p:grpSpPr>
        <p:sp>
          <p:nvSpPr>
            <p:cNvPr id="233" name="AutoShape 16"/>
            <p:cNvSpPr/>
            <p:nvPr/>
          </p:nvSpPr>
          <p:spPr>
            <a:xfrm>
              <a:off x="3125880" y="6122880"/>
              <a:ext cx="3822480" cy="488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7"/>
            <p:cNvSpPr/>
            <p:nvPr/>
          </p:nvSpPr>
          <p:spPr>
            <a:xfrm>
              <a:off x="174600" y="5241960"/>
              <a:ext cx="2506680" cy="1260360"/>
            </a:xfrm>
            <a:prstGeom prst="wedgeRoundRectCallout">
              <a:avLst>
                <a:gd name="adj1" fmla="val 66847"/>
                <a:gd name="adj2" fmla="val 36018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@IP et MAC d’une imprimante rés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6"/>
          <p:cNvGrpSpPr/>
          <p:nvPr/>
        </p:nvGrpSpPr>
        <p:grpSpPr>
          <a:xfrm>
            <a:off x="3086280" y="3541680"/>
            <a:ext cx="5883120" cy="2019240"/>
            <a:chOff x="3086280" y="3541680"/>
            <a:chExt cx="5883120" cy="2019240"/>
          </a:xfrm>
        </p:grpSpPr>
        <p:sp>
          <p:nvSpPr>
            <p:cNvPr id="236" name="AutoShape 15"/>
            <p:cNvSpPr/>
            <p:nvPr/>
          </p:nvSpPr>
          <p:spPr>
            <a:xfrm>
              <a:off x="3086280" y="4840200"/>
              <a:ext cx="2706480" cy="6606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6365880" y="3541680"/>
              <a:ext cx="2603520" cy="2019240"/>
            </a:xfrm>
            <a:prstGeom prst="wedgeRoundRectCallout">
              <a:avLst>
                <a:gd name="adj1" fmla="val -71888"/>
                <a:gd name="adj2" fmla="val 31365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Plage d’adressage IP privée 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192.168.1.2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à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192.168.1.2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6"/>
          <p:cNvSpPr/>
          <p:nvPr/>
        </p:nvSpPr>
        <p:spPr>
          <a:xfrm>
            <a:off x="-720" y="-215280"/>
            <a:ext cx="181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emple chez un particulier 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9"/>
          <p:cNvSpPr/>
          <p:nvPr/>
        </p:nvSpPr>
        <p:spPr>
          <a:xfrm>
            <a:off x="19080" y="537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0"/>
          <p:cNvSpPr/>
          <p:nvPr/>
        </p:nvSpPr>
        <p:spPr>
          <a:xfrm>
            <a:off x="1908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Exemple d’@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rcRect l="4918" t="25367" r="6737" b="41541"/>
          <a:stretch/>
        </p:blipFill>
        <p:spPr>
          <a:xfrm>
            <a:off x="3651120" y="4292640"/>
            <a:ext cx="5229360" cy="2320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0"/>
          <p:cNvSpPr/>
          <p:nvPr/>
        </p:nvSpPr>
        <p:spPr>
          <a:xfrm>
            <a:off x="18360" y="-196200"/>
            <a:ext cx="181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emple chez un particulier 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190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908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0"/>
          <p:cNvGrpSpPr/>
          <p:nvPr/>
        </p:nvGrpSpPr>
        <p:grpSpPr>
          <a:xfrm>
            <a:off x="3460680" y="1946160"/>
            <a:ext cx="5383440" cy="2156040"/>
            <a:chOff x="3460680" y="1946160"/>
            <a:chExt cx="5383440" cy="2156040"/>
          </a:xfrm>
        </p:grpSpPr>
        <p:pic>
          <p:nvPicPr>
            <p:cNvPr id="247" name="Picture 15" descr=""/>
            <p:cNvPicPr/>
            <p:nvPr/>
          </p:nvPicPr>
          <p:blipFill>
            <a:blip r:embed="rId2"/>
            <a:srcRect l="31822" t="42177" r="7933" b="28880"/>
            <a:stretch/>
          </p:blipFill>
          <p:spPr>
            <a:xfrm>
              <a:off x="3460680" y="1946160"/>
              <a:ext cx="5383440" cy="21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16"/>
            <p:cNvSpPr/>
            <p:nvPr/>
          </p:nvSpPr>
          <p:spPr>
            <a:xfrm>
              <a:off x="7867800" y="3373560"/>
              <a:ext cx="69048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1047600" y="2759040"/>
            <a:ext cx="7551360" cy="944640"/>
            <a:chOff x="1047600" y="2759040"/>
            <a:chExt cx="7551360" cy="944640"/>
          </a:xfrm>
        </p:grpSpPr>
        <p:sp>
          <p:nvSpPr>
            <p:cNvPr id="250" name="AutoShape 42"/>
            <p:cNvSpPr/>
            <p:nvPr/>
          </p:nvSpPr>
          <p:spPr>
            <a:xfrm>
              <a:off x="5252760" y="3449520"/>
              <a:ext cx="3346200" cy="2541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3"/>
            <p:cNvSpPr/>
            <p:nvPr/>
          </p:nvSpPr>
          <p:spPr>
            <a:xfrm>
              <a:off x="1047600" y="2759040"/>
              <a:ext cx="3773160" cy="870120"/>
            </a:xfrm>
            <a:prstGeom prst="wedgeRoundRectCallout">
              <a:avLst>
                <a:gd name="adj1" fmla="val 61189"/>
                <a:gd name="adj2" fmla="val 39597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@IP public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WAN (Wide Area Networ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1"/>
          <p:cNvGrpSpPr/>
          <p:nvPr/>
        </p:nvGrpSpPr>
        <p:grpSpPr>
          <a:xfrm>
            <a:off x="1062000" y="5681520"/>
            <a:ext cx="6838920" cy="955800"/>
            <a:chOff x="1062000" y="5681520"/>
            <a:chExt cx="6838920" cy="955800"/>
          </a:xfrm>
        </p:grpSpPr>
        <p:sp>
          <p:nvSpPr>
            <p:cNvPr id="253" name="AutoShape 44"/>
            <p:cNvSpPr/>
            <p:nvPr/>
          </p:nvSpPr>
          <p:spPr>
            <a:xfrm>
              <a:off x="4648320" y="6114960"/>
              <a:ext cx="3251160" cy="3398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5"/>
            <p:cNvSpPr/>
            <p:nvPr/>
          </p:nvSpPr>
          <p:spPr>
            <a:xfrm>
              <a:off x="4649760" y="6440400"/>
              <a:ext cx="3251160" cy="19692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6"/>
            <p:cNvSpPr/>
            <p:nvPr/>
          </p:nvSpPr>
          <p:spPr>
            <a:xfrm>
              <a:off x="1062000" y="5681520"/>
              <a:ext cx="3164040" cy="870120"/>
            </a:xfrm>
            <a:prstGeom prst="wedgeRoundRectCallout">
              <a:avLst>
                <a:gd name="adj1" fmla="val 63347"/>
                <a:gd name="adj2" fmla="val 39597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Adressages IP et MAC de consoles de j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Fonctions d’un rés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2048"/>
          <p:cNvSpPr/>
          <p:nvPr/>
        </p:nvSpPr>
        <p:spPr>
          <a:xfrm>
            <a:off x="690480" y="1916280"/>
            <a:ext cx="7769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Les fonctions d’un réseau son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ZoneTexte 19" descr=""/>
          <p:cNvPicPr/>
          <p:nvPr/>
        </p:nvPicPr>
        <p:blipFill>
          <a:blip r:embed="rId1"/>
          <a:stretch/>
        </p:blipFill>
        <p:spPr>
          <a:xfrm>
            <a:off x="689040" y="2279520"/>
            <a:ext cx="7772400" cy="89064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26" descr=""/>
          <p:cNvPicPr/>
          <p:nvPr/>
        </p:nvPicPr>
        <p:blipFill>
          <a:blip r:embed="rId2"/>
          <a:stretch/>
        </p:blipFill>
        <p:spPr>
          <a:xfrm>
            <a:off x="689040" y="3505320"/>
            <a:ext cx="7772400" cy="89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1090440" y="5175360"/>
            <a:ext cx="1295640" cy="115236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5"/>
          <p:cNvSpPr/>
          <p:nvPr/>
        </p:nvSpPr>
        <p:spPr>
          <a:xfrm>
            <a:off x="690480" y="2938320"/>
            <a:ext cx="7769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ou </a:t>
            </a: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e 4"/>
          <p:cNvGrpSpPr/>
          <p:nvPr/>
        </p:nvGrpSpPr>
        <p:grpSpPr>
          <a:xfrm>
            <a:off x="2411280" y="4254480"/>
            <a:ext cx="6048360" cy="2062080"/>
            <a:chOff x="2411280" y="4254480"/>
            <a:chExt cx="6048360" cy="2062080"/>
          </a:xfrm>
        </p:grpSpPr>
        <p:pic>
          <p:nvPicPr>
            <p:cNvPr id="113" name="Connecteur droit avec flèche 5" descr=""/>
            <p:cNvPicPr/>
            <p:nvPr/>
          </p:nvPicPr>
          <p:blipFill>
            <a:blip r:embed="rId4"/>
            <a:stretch/>
          </p:blipFill>
          <p:spPr>
            <a:xfrm>
              <a:off x="2411280" y="5636160"/>
              <a:ext cx="3930120" cy="34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Connecteur droit avec flèche 27"/>
            <p:cNvCxnSpPr/>
            <p:nvPr/>
          </p:nvCxnSpPr>
          <p:spPr>
            <a:xfrm>
              <a:off x="2582280" y="5655600"/>
              <a:ext cx="3693240" cy="10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med" type="triangle" w="med"/>
            </a:ln>
          </p:spPr>
        </p:cxnSp>
        <p:pic>
          <p:nvPicPr>
            <p:cNvPr id="115" name="Picture 2" descr=""/>
            <p:cNvPicPr/>
            <p:nvPr/>
          </p:nvPicPr>
          <p:blipFill>
            <a:blip r:embed="rId5"/>
            <a:stretch/>
          </p:blipFill>
          <p:spPr>
            <a:xfrm>
              <a:off x="6402960" y="5219280"/>
              <a:ext cx="127512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ZoneTexte 29" descr=""/>
            <p:cNvPicPr/>
            <p:nvPr/>
          </p:nvPicPr>
          <p:blipFill>
            <a:blip r:embed="rId6"/>
            <a:stretch/>
          </p:blipFill>
          <p:spPr>
            <a:xfrm>
              <a:off x="4427280" y="4254480"/>
              <a:ext cx="403236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ZoneTexte 31" descr=""/>
          <p:cNvPicPr/>
          <p:nvPr/>
        </p:nvPicPr>
        <p:blipFill>
          <a:blip r:embed="rId7"/>
          <a:stretch/>
        </p:blipFill>
        <p:spPr>
          <a:xfrm>
            <a:off x="689040" y="4181400"/>
            <a:ext cx="40291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8040" y="314136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XXXXXXXX  .  XXXXXXXX  .  XXXXXXXX  .  X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e 2052"/>
          <p:cNvGrpSpPr/>
          <p:nvPr/>
        </p:nvGrpSpPr>
        <p:grpSpPr>
          <a:xfrm>
            <a:off x="971640" y="2214720"/>
            <a:ext cx="7200720" cy="1047240"/>
            <a:chOff x="971640" y="2214720"/>
            <a:chExt cx="7200720" cy="1047240"/>
          </a:xfrm>
        </p:grpSpPr>
        <p:sp>
          <p:nvSpPr>
            <p:cNvPr id="121" name="AutoShape 25"/>
            <p:cNvSpPr/>
            <p:nvPr/>
          </p:nvSpPr>
          <p:spPr>
            <a:xfrm flipV="1" rot="16200000">
              <a:off x="4431960" y="-599040"/>
              <a:ext cx="279720" cy="720072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192600 h 7200720"/>
                <a:gd name="textAreaBottom" fmla="*/ 7008120 h 72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23"/>
                    <a:pt x="10800" y="1846"/>
                  </a:cubicBezTo>
                  <a:lnTo>
                    <a:pt x="10800" y="8954"/>
                  </a:lnTo>
                  <a:cubicBezTo>
                    <a:pt x="10800" y="9877"/>
                    <a:pt x="16200" y="10800"/>
                    <a:pt x="21600" y="10800"/>
                  </a:cubicBezTo>
                  <a:cubicBezTo>
                    <a:pt x="16200" y="10800"/>
                    <a:pt x="10800" y="11723"/>
                    <a:pt x="10800" y="12646"/>
                  </a:cubicBezTo>
                  <a:lnTo>
                    <a:pt x="10800" y="19754"/>
                  </a:lnTo>
                  <a:cubicBezTo>
                    <a:pt x="10800" y="2067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ZoneTexte 2048"/>
            <p:cNvSpPr/>
            <p:nvPr/>
          </p:nvSpPr>
          <p:spPr>
            <a:xfrm>
              <a:off x="3564000" y="2214720"/>
              <a:ext cx="1944000" cy="10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Calibri"/>
                </a:rPr>
                <a:t>32 bi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e 2054"/>
          <p:cNvGrpSpPr/>
          <p:nvPr/>
        </p:nvGrpSpPr>
        <p:grpSpPr>
          <a:xfrm>
            <a:off x="977400" y="3645000"/>
            <a:ext cx="7194960" cy="1256760"/>
            <a:chOff x="977400" y="3645000"/>
            <a:chExt cx="7194960" cy="1256760"/>
          </a:xfrm>
        </p:grpSpPr>
        <p:sp>
          <p:nvSpPr>
            <p:cNvPr id="124" name="AutoShape 36"/>
            <p:cNvSpPr/>
            <p:nvPr/>
          </p:nvSpPr>
          <p:spPr>
            <a:xfrm rot="5400000">
              <a:off x="1586160" y="30358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Zone de texte 2"/>
            <p:cNvSpPr/>
            <p:nvPr/>
          </p:nvSpPr>
          <p:spPr>
            <a:xfrm>
              <a:off x="977760" y="40050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6"/>
            <p:cNvSpPr/>
            <p:nvPr/>
          </p:nvSpPr>
          <p:spPr>
            <a:xfrm rot="5400000">
              <a:off x="341928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 de texte 2"/>
            <p:cNvSpPr/>
            <p:nvPr/>
          </p:nvSpPr>
          <p:spPr>
            <a:xfrm>
              <a:off x="281088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6"/>
            <p:cNvSpPr/>
            <p:nvPr/>
          </p:nvSpPr>
          <p:spPr>
            <a:xfrm rot="5400000">
              <a:off x="536364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Zone de texte 2"/>
            <p:cNvSpPr/>
            <p:nvPr/>
          </p:nvSpPr>
          <p:spPr>
            <a:xfrm>
              <a:off x="475524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 rot="5400000">
              <a:off x="727488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Zone de texte 2"/>
            <p:cNvSpPr/>
            <p:nvPr/>
          </p:nvSpPr>
          <p:spPr>
            <a:xfrm>
              <a:off x="666648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2 formes d’écr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3840" y="443700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fr-FR" sz="3600" spc="-1" strike="noStrike" u="sng">
                <a:solidFill>
                  <a:srgbClr val="c00000"/>
                </a:solidFill>
                <a:uFillTx/>
                <a:latin typeface="Calibri"/>
              </a:rPr>
              <a:t>Valeur décimal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212 . 134 . 0 .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141120" y="206064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 u="sng">
                <a:solidFill>
                  <a:srgbClr val="0070c0"/>
                </a:solidFill>
                <a:uFillTx/>
                <a:latin typeface="Calibri"/>
              </a:rPr>
              <a:t>Valeur binaire</a:t>
            </a:r>
            <a:br>
              <a:rPr sz="3600"/>
            </a:b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11010100 . 10000110 . 00000000 . 0000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re 1"/>
          <p:cNvSpPr/>
          <p:nvPr/>
        </p:nvSpPr>
        <p:spPr>
          <a:xfrm>
            <a:off x="70488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2 identif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141120" y="204804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L’adresse est découpée en 2 part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271440" y="3716280"/>
            <a:ext cx="4319640" cy="1739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70c0"/>
                </a:solidFill>
                <a:uFillTx/>
                <a:latin typeface="Baskerville Old Face"/>
                <a:ea typeface="Aharoni"/>
              </a:rPr>
              <a:t>Identifiant du rés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7"/>
          <p:cNvSpPr/>
          <p:nvPr/>
        </p:nvSpPr>
        <p:spPr>
          <a:xfrm>
            <a:off x="4591080" y="3716280"/>
            <a:ext cx="4321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70c0"/>
                </a:solidFill>
                <a:uFillTx/>
                <a:latin typeface="Baskerville Old Face"/>
                <a:ea typeface="Aharoni"/>
              </a:rPr>
              <a:t>Identifiant de l’hô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5"/>
          <p:cNvSpPr/>
          <p:nvPr/>
        </p:nvSpPr>
        <p:spPr>
          <a:xfrm>
            <a:off x="271440" y="486900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…</a:t>
            </a: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et ce découpage dépend de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0000"/>
                </a:solidFill>
                <a:latin typeface="Calibri"/>
              </a:rPr>
              <a:t>classe du réseau</a:t>
            </a: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58360" y="2377800"/>
            <a:ext cx="2220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0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e 11"/>
          <p:cNvGrpSpPr/>
          <p:nvPr/>
        </p:nvGrpSpPr>
        <p:grpSpPr>
          <a:xfrm>
            <a:off x="406440" y="1730520"/>
            <a:ext cx="2641680" cy="706320"/>
            <a:chOff x="406440" y="1730520"/>
            <a:chExt cx="2641680" cy="706320"/>
          </a:xfrm>
        </p:grpSpPr>
        <p:sp>
          <p:nvSpPr>
            <p:cNvPr id="143" name="AutoShape 25"/>
            <p:cNvSpPr/>
            <p:nvPr/>
          </p:nvSpPr>
          <p:spPr>
            <a:xfrm flipV="1" rot="16200000">
              <a:off x="1657440" y="1576800"/>
              <a:ext cx="139680" cy="158040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1580400"/>
                <a:gd name="textAreaBottom" fmla="*/ 1484280 h 15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03"/>
                    <a:pt x="10800" y="4206"/>
                  </a:cubicBezTo>
                  <a:lnTo>
                    <a:pt x="10800" y="6594"/>
                  </a:lnTo>
                  <a:cubicBezTo>
                    <a:pt x="10800" y="8697"/>
                    <a:pt x="16200" y="10800"/>
                    <a:pt x="21600" y="10800"/>
                  </a:cubicBezTo>
                  <a:cubicBezTo>
                    <a:pt x="16200" y="10800"/>
                    <a:pt x="10800" y="12903"/>
                    <a:pt x="10800" y="15006"/>
                  </a:cubicBezTo>
                  <a:lnTo>
                    <a:pt x="10800" y="17394"/>
                  </a:lnTo>
                  <a:cubicBezTo>
                    <a:pt x="10800" y="1949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2048"/>
            <p:cNvSpPr/>
            <p:nvPr/>
          </p:nvSpPr>
          <p:spPr>
            <a:xfrm>
              <a:off x="406440" y="1730520"/>
              <a:ext cx="2641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e 10"/>
          <p:cNvGrpSpPr/>
          <p:nvPr/>
        </p:nvGrpSpPr>
        <p:grpSpPr>
          <a:xfrm>
            <a:off x="2365200" y="1725480"/>
            <a:ext cx="5838840" cy="1319400"/>
            <a:chOff x="2365200" y="1725480"/>
            <a:chExt cx="5838840" cy="1319400"/>
          </a:xfrm>
        </p:grpSpPr>
        <p:sp>
          <p:nvSpPr>
            <p:cNvPr id="147" name="AutoShape 25"/>
            <p:cNvSpPr/>
            <p:nvPr/>
          </p:nvSpPr>
          <p:spPr>
            <a:xfrm flipV="1" rot="16200000">
              <a:off x="5419440" y="-339480"/>
              <a:ext cx="139680" cy="54003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5400360"/>
                <a:gd name="textAreaBottom" fmla="*/ 5304240 h 54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6"/>
                    <a:pt x="10800" y="1231"/>
                  </a:cubicBezTo>
                  <a:lnTo>
                    <a:pt x="10800" y="9569"/>
                  </a:lnTo>
                  <a:cubicBezTo>
                    <a:pt x="10800" y="10185"/>
                    <a:pt x="16200" y="10800"/>
                    <a:pt x="21600" y="10800"/>
                  </a:cubicBezTo>
                  <a:cubicBezTo>
                    <a:pt x="16200" y="10800"/>
                    <a:pt x="10800" y="11416"/>
                    <a:pt x="10800" y="12031"/>
                  </a:cubicBezTo>
                  <a:lnTo>
                    <a:pt x="10800" y="20369"/>
                  </a:lnTo>
                  <a:cubicBezTo>
                    <a:pt x="10800" y="2098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ZoneTexte 16"/>
            <p:cNvSpPr/>
            <p:nvPr/>
          </p:nvSpPr>
          <p:spPr>
            <a:xfrm>
              <a:off x="2789640" y="1725480"/>
              <a:ext cx="5414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ous-titre 2"/>
            <p:cNvSpPr/>
            <p:nvPr/>
          </p:nvSpPr>
          <p:spPr>
            <a:xfrm>
              <a:off x="2365200" y="2396880"/>
              <a:ext cx="5825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ZoneTexte 13"/>
          <p:cNvSpPr/>
          <p:nvPr/>
        </p:nvSpPr>
        <p:spPr>
          <a:xfrm>
            <a:off x="6012000" y="3457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29"/>
          <p:cNvSpPr/>
          <p:nvPr/>
        </p:nvSpPr>
        <p:spPr>
          <a:xfrm>
            <a:off x="6012000" y="39574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0"/>
          <p:cNvSpPr/>
          <p:nvPr/>
        </p:nvSpPr>
        <p:spPr>
          <a:xfrm>
            <a:off x="6012000" y="4481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31"/>
          <p:cNvSpPr/>
          <p:nvPr/>
        </p:nvSpPr>
        <p:spPr>
          <a:xfrm>
            <a:off x="6012000" y="5040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6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32"/>
          <p:cNvSpPr/>
          <p:nvPr/>
        </p:nvSpPr>
        <p:spPr>
          <a:xfrm>
            <a:off x="6012000" y="54975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33"/>
          <p:cNvSpPr/>
          <p:nvPr/>
        </p:nvSpPr>
        <p:spPr>
          <a:xfrm>
            <a:off x="6012000" y="602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 777 2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19000" y="2430360"/>
            <a:ext cx="3654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0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.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e 8"/>
          <p:cNvGrpSpPr/>
          <p:nvPr/>
        </p:nvGrpSpPr>
        <p:grpSpPr>
          <a:xfrm>
            <a:off x="938160" y="1698480"/>
            <a:ext cx="3417840" cy="739800"/>
            <a:chOff x="938160" y="1698480"/>
            <a:chExt cx="3417840" cy="739800"/>
          </a:xfrm>
        </p:grpSpPr>
        <p:sp>
          <p:nvSpPr>
            <p:cNvPr id="159" name="AutoShape 25"/>
            <p:cNvSpPr/>
            <p:nvPr/>
          </p:nvSpPr>
          <p:spPr>
            <a:xfrm flipV="1" rot="16200000">
              <a:off x="2577240" y="659520"/>
              <a:ext cx="139680" cy="341784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3417840"/>
                <a:gd name="textAreaBottom" fmla="*/ 3321720 h 34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72"/>
                    <a:pt x="10800" y="1944"/>
                  </a:cubicBezTo>
                  <a:lnTo>
                    <a:pt x="10800" y="8856"/>
                  </a:lnTo>
                  <a:cubicBezTo>
                    <a:pt x="10800" y="9828"/>
                    <a:pt x="16200" y="10800"/>
                    <a:pt x="21600" y="10800"/>
                  </a:cubicBezTo>
                  <a:cubicBezTo>
                    <a:pt x="16200" y="10800"/>
                    <a:pt x="10800" y="11772"/>
                    <a:pt x="10800" y="12744"/>
                  </a:cubicBezTo>
                  <a:lnTo>
                    <a:pt x="10800" y="19656"/>
                  </a:lnTo>
                  <a:cubicBezTo>
                    <a:pt x="10800" y="2062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ZoneTexte 2048"/>
            <p:cNvSpPr/>
            <p:nvPr/>
          </p:nvSpPr>
          <p:spPr>
            <a:xfrm>
              <a:off x="1326240" y="1698480"/>
              <a:ext cx="26413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62" name="Groupe 5"/>
          <p:cNvGrpSpPr/>
          <p:nvPr/>
        </p:nvGrpSpPr>
        <p:grpSpPr>
          <a:xfrm>
            <a:off x="4211640" y="1725480"/>
            <a:ext cx="3979800" cy="1359000"/>
            <a:chOff x="4211640" y="1725480"/>
            <a:chExt cx="3979800" cy="1359000"/>
          </a:xfrm>
        </p:grpSpPr>
        <p:sp>
          <p:nvSpPr>
            <p:cNvPr id="163" name="AutoShape 25"/>
            <p:cNvSpPr/>
            <p:nvPr/>
          </p:nvSpPr>
          <p:spPr>
            <a:xfrm flipV="1" rot="16200000">
              <a:off x="6343560" y="589320"/>
              <a:ext cx="146880" cy="3547800"/>
            </a:xfrm>
            <a:custGeom>
              <a:avLst/>
              <a:gdLst>
                <a:gd name="textAreaLeft" fmla="*/ 0 w 146880"/>
                <a:gd name="textAreaRight" fmla="*/ 52920 w 146880"/>
                <a:gd name="textAreaTop" fmla="*/ 101160 h 3547800"/>
                <a:gd name="textAreaBottom" fmla="*/ 3446640 h 35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5"/>
                    <a:pt x="10800" y="1970"/>
                  </a:cubicBezTo>
                  <a:lnTo>
                    <a:pt x="10800" y="8830"/>
                  </a:lnTo>
                  <a:cubicBezTo>
                    <a:pt x="10800" y="9815"/>
                    <a:pt x="16200" y="10800"/>
                    <a:pt x="21600" y="10800"/>
                  </a:cubicBezTo>
                  <a:cubicBezTo>
                    <a:pt x="16200" y="10800"/>
                    <a:pt x="10800" y="11785"/>
                    <a:pt x="10800" y="12770"/>
                  </a:cubicBezTo>
                  <a:lnTo>
                    <a:pt x="10800" y="19630"/>
                  </a:lnTo>
                  <a:cubicBezTo>
                    <a:pt x="10800" y="2061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ZoneTexte 16"/>
            <p:cNvSpPr/>
            <p:nvPr/>
          </p:nvSpPr>
          <p:spPr>
            <a:xfrm>
              <a:off x="4643640" y="1725480"/>
              <a:ext cx="3547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ous-titre 2"/>
            <p:cNvSpPr/>
            <p:nvPr/>
          </p:nvSpPr>
          <p:spPr>
            <a:xfrm>
              <a:off x="4211640" y="2436840"/>
              <a:ext cx="3979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ZoneTexte 13"/>
          <p:cNvSpPr/>
          <p:nvPr/>
        </p:nvSpPr>
        <p:spPr>
          <a:xfrm>
            <a:off x="5987880" y="34052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29"/>
          <p:cNvSpPr/>
          <p:nvPr/>
        </p:nvSpPr>
        <p:spPr>
          <a:xfrm>
            <a:off x="5991120" y="39560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 3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30"/>
          <p:cNvSpPr/>
          <p:nvPr/>
        </p:nvSpPr>
        <p:spPr>
          <a:xfrm>
            <a:off x="5987880" y="44290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8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31"/>
          <p:cNvSpPr/>
          <p:nvPr/>
        </p:nvSpPr>
        <p:spPr>
          <a:xfrm>
            <a:off x="5987880" y="4987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1.255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32"/>
          <p:cNvSpPr/>
          <p:nvPr/>
        </p:nvSpPr>
        <p:spPr>
          <a:xfrm>
            <a:off x="5987880" y="54784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33"/>
          <p:cNvSpPr/>
          <p:nvPr/>
        </p:nvSpPr>
        <p:spPr>
          <a:xfrm>
            <a:off x="5987880" y="59500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Calibri"/>
              </a:rPr>
              <a:t>65 5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37800" y="2360160"/>
            <a:ext cx="5396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10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. 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. 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e 8"/>
          <p:cNvGrpSpPr/>
          <p:nvPr/>
        </p:nvGrpSpPr>
        <p:grpSpPr>
          <a:xfrm>
            <a:off x="938160" y="1684440"/>
            <a:ext cx="5362560" cy="712800"/>
            <a:chOff x="938160" y="1684440"/>
            <a:chExt cx="5362560" cy="712800"/>
          </a:xfrm>
        </p:grpSpPr>
        <p:sp>
          <p:nvSpPr>
            <p:cNvPr id="175" name="AutoShape 25"/>
            <p:cNvSpPr/>
            <p:nvPr/>
          </p:nvSpPr>
          <p:spPr>
            <a:xfrm flipV="1" rot="16200000">
              <a:off x="3549600" y="-353520"/>
              <a:ext cx="139680" cy="53625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5362560"/>
                <a:gd name="textAreaBottom" fmla="*/ 5266440 h 536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20"/>
                    <a:pt x="10800" y="1239"/>
                  </a:cubicBezTo>
                  <a:lnTo>
                    <a:pt x="10800" y="9561"/>
                  </a:lnTo>
                  <a:cubicBezTo>
                    <a:pt x="10800" y="10181"/>
                    <a:pt x="16200" y="10800"/>
                    <a:pt x="21600" y="10800"/>
                  </a:cubicBezTo>
                  <a:cubicBezTo>
                    <a:pt x="16200" y="10800"/>
                    <a:pt x="10800" y="11420"/>
                    <a:pt x="10800" y="12039"/>
                  </a:cubicBezTo>
                  <a:lnTo>
                    <a:pt x="10800" y="20361"/>
                  </a:lnTo>
                  <a:cubicBezTo>
                    <a:pt x="10800" y="2098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2048"/>
            <p:cNvSpPr/>
            <p:nvPr/>
          </p:nvSpPr>
          <p:spPr>
            <a:xfrm>
              <a:off x="938160" y="1684440"/>
              <a:ext cx="5362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78" name="Groupe 4"/>
          <p:cNvGrpSpPr/>
          <p:nvPr/>
        </p:nvGrpSpPr>
        <p:grpSpPr>
          <a:xfrm>
            <a:off x="6227640" y="1725480"/>
            <a:ext cx="2130480" cy="1319400"/>
            <a:chOff x="6227640" y="1725480"/>
            <a:chExt cx="2130480" cy="1319400"/>
          </a:xfrm>
        </p:grpSpPr>
        <p:sp>
          <p:nvSpPr>
            <p:cNvPr id="179" name="AutoShape 25"/>
            <p:cNvSpPr/>
            <p:nvPr/>
          </p:nvSpPr>
          <p:spPr>
            <a:xfrm flipV="1" rot="16200000">
              <a:off x="7315200" y="1524960"/>
              <a:ext cx="146880" cy="1603080"/>
            </a:xfrm>
            <a:custGeom>
              <a:avLst/>
              <a:gdLst>
                <a:gd name="textAreaLeft" fmla="*/ 0 w 146880"/>
                <a:gd name="textAreaRight" fmla="*/ 52920 w 146880"/>
                <a:gd name="textAreaTop" fmla="*/ 101160 h 1603080"/>
                <a:gd name="textAreaBottom" fmla="*/ 150192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80"/>
                    <a:pt x="10800" y="4360"/>
                  </a:cubicBezTo>
                  <a:lnTo>
                    <a:pt x="10800" y="6440"/>
                  </a:lnTo>
                  <a:cubicBezTo>
                    <a:pt x="10800" y="8620"/>
                    <a:pt x="16200" y="10800"/>
                    <a:pt x="21600" y="10800"/>
                  </a:cubicBezTo>
                  <a:cubicBezTo>
                    <a:pt x="16200" y="10800"/>
                    <a:pt x="10800" y="12980"/>
                    <a:pt x="10800" y="15160"/>
                  </a:cubicBezTo>
                  <a:lnTo>
                    <a:pt x="10800" y="17240"/>
                  </a:lnTo>
                  <a:cubicBezTo>
                    <a:pt x="10800" y="1942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ZoneTexte 16"/>
            <p:cNvSpPr/>
            <p:nvPr/>
          </p:nvSpPr>
          <p:spPr>
            <a:xfrm>
              <a:off x="6443640" y="1725480"/>
              <a:ext cx="1914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ous-titre 2"/>
            <p:cNvSpPr/>
            <p:nvPr/>
          </p:nvSpPr>
          <p:spPr>
            <a:xfrm>
              <a:off x="6227640" y="2397240"/>
              <a:ext cx="196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6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6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ZoneTexte 13"/>
          <p:cNvSpPr/>
          <p:nvPr/>
        </p:nvSpPr>
        <p:spPr>
          <a:xfrm>
            <a:off x="5987880" y="34052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29"/>
          <p:cNvSpPr/>
          <p:nvPr/>
        </p:nvSpPr>
        <p:spPr>
          <a:xfrm>
            <a:off x="5991120" y="3871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 097 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30"/>
          <p:cNvSpPr/>
          <p:nvPr/>
        </p:nvSpPr>
        <p:spPr>
          <a:xfrm>
            <a:off x="5987880" y="44290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31"/>
          <p:cNvSpPr/>
          <p:nvPr/>
        </p:nvSpPr>
        <p:spPr>
          <a:xfrm>
            <a:off x="5987880" y="4987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23.255.2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32"/>
          <p:cNvSpPr/>
          <p:nvPr/>
        </p:nvSpPr>
        <p:spPr>
          <a:xfrm>
            <a:off x="5997600" y="54579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33"/>
          <p:cNvSpPr/>
          <p:nvPr/>
        </p:nvSpPr>
        <p:spPr>
          <a:xfrm>
            <a:off x="5981760" y="59691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Intérêt du masque de rés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oneTexte 5"/>
          <p:cNvSpPr/>
          <p:nvPr/>
        </p:nvSpPr>
        <p:spPr>
          <a:xfrm>
            <a:off x="725400" y="19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peut détermin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20"/>
          <p:cNvSpPr/>
          <p:nvPr/>
        </p:nvSpPr>
        <p:spPr>
          <a:xfrm>
            <a:off x="755640" y="27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L’adresse réseau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23"/>
          <p:cNvSpPr/>
          <p:nvPr/>
        </p:nvSpPr>
        <p:spPr>
          <a:xfrm>
            <a:off x="750960" y="3336840"/>
            <a:ext cx="76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Adresse de diffusion réseau qui désigne tous les hôtes de ce réseau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7"/>
          <p:cNvSpPr/>
          <p:nvPr/>
        </p:nvSpPr>
        <p:spPr>
          <a:xfrm>
            <a:off x="755640" y="441324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Adresses du premier et dernier hôte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8"/>
          <p:cNvSpPr/>
          <p:nvPr/>
        </p:nvSpPr>
        <p:spPr>
          <a:xfrm>
            <a:off x="725400" y="509256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Nombre d’hôtes du ré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3:14:26Z</dcterms:created>
  <dc:creator>phedelin</dc:creator>
  <dc:description/>
  <dc:language>en-US</dc:language>
  <cp:lastModifiedBy>phedelin</cp:lastModifiedBy>
  <dcterms:modified xsi:type="dcterms:W3CDTF">2011-12-06T09:16:58Z</dcterms:modified>
  <cp:revision>110</cp:revision>
  <dc:subject/>
  <dc:title>Présentation PowerPoint</dc:title>
</cp:coreProperties>
</file>