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E1C-279A-4352-904C-EF082916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185-9436-4662-9898-4836CE09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84F-8F2F-430E-9014-C485A50C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37D-ECEC-4CDF-9BD9-A9560F29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66EE-2FC9-4C8F-8833-644C608F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6E0E-06FD-4832-A4A5-9E49715D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8D34-CEF7-4E53-A536-833036E7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675C-E76E-4FA9-AFDC-56027225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8152-80B2-46C6-A812-FFB49D7C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AB7F-B915-495E-A4E0-6FA2037C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392B-EA4B-4C05-B8CC-7E29D5F5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545-96A8-4DC5-9BFB-4FA9F618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CBB5-A85B-49FC-B317-19AB9667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FBBA-0D6C-4B98-BED0-E90A5566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049D-F659-40BF-88D0-54AF9CDE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193D-713D-49BB-80F9-177D587B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2079-257D-493E-96F0-D71A27B1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4FF2F-8767-4994-8B9E-C3EF9E04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A8A87A-8EFB-4020-A3F3-48BD025F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755A7-95C4-4AA5-9482-05D3159D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46DAA-77D9-44EE-9E3B-DBD48C0F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47E24-1693-4F9D-B40C-3B32BE49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A294-D6D2-41BD-A948-37D85A79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58CC29-E6AD-4218-8E0D-D278F11F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C64A7-F4D2-490A-A1B9-3559FB7F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2AE0C-CBA9-41A9-ABE5-AD7918D6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53253-6F1A-4835-918A-240968FD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DF2BF-45D1-4C55-AD75-1C42E7B6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9F6C3D-CEB9-414C-AC82-6E5001E2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701E5-CCBC-4502-B76F-0180622F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BB7877-75B7-47D5-8430-0DADF336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6B92B-CA40-4F4E-90C1-439EAAA6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04186D-9378-42A8-9354-EC74671D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8CE-A2A4-4CB6-8818-22D22D95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0E1DEF-FE29-44EA-A407-0E8A7CD3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1A3A0-EE09-46C7-9863-1D7774BD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C41CD-09C7-4ED9-AD1B-C6DA56F3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82922-6C63-4F1F-AF16-DE3E4CEB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A0AA5F-F717-40CD-A655-AEA5A875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D45137-42CC-4D86-890A-F76FE93A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4EC7CF-12F8-4DBC-9DDB-78A6AE15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4D0E9-FBF1-4104-BC72-65CB6685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C8530-CE85-48FB-B63A-A3552671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84C4F6-D410-4641-B0BB-C792F386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6B6E-E42F-4C55-8B8D-E319ABC0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9490EB-DE47-4692-ACF2-0EDB38E6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AF480-691B-4FC9-BB52-6F381577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507E97-F643-495E-884C-690C8FC3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77AF6-988A-4E92-B168-5A7DC09F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D9280A-5025-4EC9-9ED5-794EBB4F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C9516-9722-4FD1-A0F0-CCBD3E38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AECAE-7087-4063-A261-220C94EF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578DE-2E71-4548-B8F5-F0BF5602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BADA1-A561-4C41-9EE4-3991AE87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25624-5AEE-4D14-A92B-25A3E097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EC57-DBDA-4FBC-AE34-DBEFAC4B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CCEEB-F5CE-48E9-A991-FA499D6A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5FF8E-C90C-4E45-9FB7-1CB2B954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7C069-FF7F-4CE0-8705-066C1037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16B3A-8570-4DAF-AF57-B0027998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AFB25-8254-4E9D-A36D-D051EBF4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802C2-9F61-40CD-8E52-66DA51CE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1B620-6284-4A67-9A24-2FFB94F0C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899EE-C32F-48DA-A635-67C84947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444A7-D455-4B3F-B57C-1F74F85A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EA637-D1AC-41C2-A04C-6565A09A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280-095C-46F3-9DC1-91FEC2CC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2A5F9-0066-4BB4-8F4B-3474748A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FFE2D-E5CE-43F7-A82A-B859E45B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335F5-3F9E-4E7A-91A4-B6B62E22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C00EE-CA9B-4C15-94EB-AC32948D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AAFCE4-51A9-4D67-9CB9-FC685266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B286D-DC2C-4CE5-9A8C-C5011516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1E6352-1DDD-4EEC-8886-6FD99F25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6E537D-2A71-4C5D-92A5-87E08B0E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1F1925-8F87-4AC7-91E3-4E8DE9DA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FD69D2-1EB8-4965-96BC-3DB78C6E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B88-AC4E-420C-8A8B-D03BA3E9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1BB1C-7F4C-49A4-8A25-FE5EFB2E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C91EAA-B0F5-451A-8F2A-A00CAD9C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B207A4-16C8-47BE-B47C-D8E50387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9DE1B-B29D-4255-ADC2-A19D2A99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1D906B-3088-43AA-B66E-F725A9DC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F6007-637D-4B6D-80FD-5DB0AB4E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25ADB-39CB-43EE-ADA5-B44B7507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54DE1-96B8-4B7B-9AA1-A5D126C3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6F607-254F-425F-B2F0-853B5D40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A6091-3492-436C-819E-FC4369AE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C93-DF56-4C6E-B485-40DC8001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C2BAE-76EF-4D03-BF9F-F002A70F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C16B3-3C78-4331-B96F-91372F4A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79F36-3321-4D26-AB02-AD2B6959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BDFF0-8F66-4B81-887B-8BF0D6C2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821DB-31F0-42E2-BA61-11AB075D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A3C06-DEB1-4C33-8E64-FD84C2B9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95172-D81B-4545-8B98-0467665D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CD28-E34E-45C9-B6E8-6EC071987ED2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E895-4B5C-4014-ABE4-687886996413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0959-C04F-4C30-8313-0CC7436B9C91}" type="datetime">
              <a:rPr b="0" lang="fr-FR" sz="2000" spc="-1" strike="noStrike">
                <a:solidFill>
                  <a:srgbClr val="ffffff"/>
                </a:solidFill>
                <a:latin typeface="Tw Cen MT"/>
              </a:rPr>
              <a:t>28/07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3ded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712E-F880-41C1-9716-B7AC879729F4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7EA1-5741-4283-9459-5167F51F3353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B227-A90D-4368-8D3D-375C6C55D271}" type="slidenum">
              <a:rPr b="1" lang="fr-F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7AC8-DB25-4B20-8D06-C4FF78E1AA43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A5FF-DE47-4494-8F84-E318FD0E5456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A789-2C0D-4CC8-9551-60DE6DF1E71E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9E9E-3983-45D6-A215-B9CD6F6DFD64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1DB6-67F8-4300-BA58-698F433ED9E7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4D10-B97F-424C-A2B3-268368E63BE0}" type="slidenum">
              <a:rPr b="1" lang="fr-FR" sz="1400" spc="-1" strike="noStrike">
                <a:solidFill>
                  <a:srgbClr val="323232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7EB1-E957-41AE-8230-8C1A19A471BC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E04C-E94E-4757-BEB7-032A21C69E75}" type="slidenum">
              <a:rPr b="1" lang="fr-F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7F1F-3EBE-4BA1-B0B2-56F1B6A77B8F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DA3A-117D-46AC-ABC4-9BB41DBCEBBA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28920" y="2571480"/>
            <a:ext cx="464328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ded1"/>
                </a:solidFill>
                <a:latin typeface="Tw Cen MT"/>
              </a:rPr>
              <a:t>PERSONNE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857160"/>
            <a:ext cx="91440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5"/>
          <p:cNvSpPr/>
          <p:nvPr/>
        </p:nvSpPr>
        <p:spPr>
          <a:xfrm>
            <a:off x="2428920" y="6215040"/>
            <a:ext cx="65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w Cen MT"/>
              </a:rPr>
              <a:t>Spécialité ISN                                           Année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6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3D9F-FFD8-4528-B6B9-32A53DED75F6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295280" cy="752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42960" y="4857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3"/>
          <a:stretch/>
        </p:blipFill>
        <p:spPr>
          <a:xfrm>
            <a:off x="6357960" y="7142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BIOGRAPHIE 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4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721A-3192-4B3E-A713-F34F03341034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28760" y="1928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9:36:47Z</dcterms:created>
  <dc:creator>Claire</dc:creator>
  <dc:description/>
  <dc:language>en-US</dc:language>
  <cp:lastModifiedBy>Proprietaire</cp:lastModifiedBy>
  <dcterms:modified xsi:type="dcterms:W3CDTF">2012-04-27T14:05:18Z</dcterms:modified>
  <cp:revision>52</cp:revision>
  <dc:subject/>
  <dc:title>Tracker solaire</dc:title>
</cp:coreProperties>
</file>