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entury Schoolbook"/>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3C2A6-C7E9-4EE9-BDA6-FAEEF0F855D8}"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9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93CCA-7C8F-4657-AE49-1E224D7EFDCD}" type="slidenum">
              <a:rPr b="0" lang="fr-FR"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E82CDD-D6ED-4697-B06E-AC077E1209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09834-8F1B-4B63-8ACE-EFB96A6E9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FF698B-8CE8-485D-8C68-C4780E8B69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ADEC8D-30A5-4458-8AD3-837A55119E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CAEFBD-7F73-47CF-91AB-63F512AFDF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FC77F3-F94B-43B8-82F6-0C041DC41F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386C30-40EB-4CCB-B50D-CC0DD4BB45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D8F00C-BB6F-4F1A-8A6A-6A1146F594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61633A-3F8B-4637-BA04-1AE07EF461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485C27-A5E6-4399-858C-D299E3DC7B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6D7FC8-018F-49A1-84EF-A96B0E03ED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4FDEB-F11C-424C-B8E8-B5904D1ED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7AFF4E-FC32-4E2B-9064-868D69CC3F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AFA898-7FC1-457D-B8E3-3361A9E05D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ECDE40-6FB3-463C-80AF-937723E025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DAA07D-ECC2-409A-B735-1F9A73ADC6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62774D-E902-4C90-97F4-D3638EC534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CF1B417-1C64-4215-96EE-B014D78095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645D4D8-0352-4092-85B1-8F22AC7058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74C6548-83D7-448E-BABF-90118D4DB3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7AFA726-C635-4A79-9A85-A1AB0BF7E8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B726AEF-4F86-4080-B5C4-E3116BE21F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A30BF-2CF8-4BB4-8580-FC6DD5E98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A6263A2-86C9-47A6-960A-ECFBD58ECF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1743B93-8A7B-4EED-858E-6A7FAA159E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37DD0F3-24EE-4BF5-9DFD-1963D34A44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C28B3ED-891C-4BBB-81FA-3DD5A7146C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7351421-0AAD-4AE8-BD52-25CEBDCEA2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93F36F8-486E-4E93-9887-BE26FAAE50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037206A-7AC2-4A56-BF3B-DF9740E592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3B366B-4B1E-44B7-952F-A97E356EF7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70DC65-1E5C-4FCF-A569-BFF5077B72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C8207D-CE12-41B2-95E5-DA2BA39CE9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0533B-25E0-4458-93D4-2855B0697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EA527E-6EF3-43F8-B0DD-BB4AC1C51A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961714-F8CB-4D33-A075-CC5875C22A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E3729A-D845-4673-B666-31745E956A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7F61CB-B33D-4BAF-96F8-407B3EF651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E576F8-3A4D-4D3B-8DDD-B6A8B45B93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C6C42B-D089-46FC-B56B-FF4BD8DF22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FE45B1-D0AF-4C18-B13C-07D63AEB90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82A60F-2E64-419D-BD3F-5BAC8E138F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864131-0887-4810-920B-F7FEE8CB1A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1EC0EFB-34F7-43D1-BB16-3F43E879B5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3B2B4-4937-4AF9-BE6D-F68CA0139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8D8AA41-E589-4380-980B-7E6E04859B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05107DB-5B7F-4B2E-BCD8-7F75125AAF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B08585E-6122-4808-8EB6-5CC8FEC1D8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4954A80-D226-433F-A552-BC8B4513C2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7808F42-8D79-4AB8-938A-C2681D66DD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28BD495-D315-4C21-84E7-882E0517C6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9AD7FA9-C9D9-497D-9C30-297899AECE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1F0DB0A-C5C9-4160-94A1-881F591084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C97357B-3B45-4440-B77B-407BD95267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B9F1770-8C2C-47BB-9B45-C1AF08512E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91F99-7F84-4E0B-AE7B-29D93791F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11B4C02-2C11-40AD-8C4A-7057AB56C9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E60E8363-2AC4-4011-87BA-FC144A2C4D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2EB8262-5E19-42CA-93F1-51245F0E6A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23D6FEE-3ACD-4A13-8BAB-05CDDE2E9F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DD13C32-7A0A-4205-8FF3-1B53962177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2ADE4FB-E9E6-4194-96B4-11F393C869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9BC7E91-BEB6-41F5-96F1-8CDA4D0C07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154716B-4E38-4B28-BDC2-5E31A49DD9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95D4A2B-8AE2-4886-9D79-97E81D8222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269053B-CB71-4838-AD17-65B6F6CB65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1A24B-756F-4986-8AA5-52778A0E1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25CC541-DD5B-4DD4-BBA9-462C461089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5D076097-2B70-414F-828B-D9ECEF5FE84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47A4A696-413A-4700-9F73-068D4E0BC28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E433EED7-2205-4BBB-BB8F-6EF0D5CC72E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6EF14B5-6CFB-49FD-9B0C-FC1C27B8A5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EF1B208-FFBD-4FA4-9007-B4AA7D767A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4FC05B9-0A1E-488A-ABC8-8A4310EEAE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F43B81F-291D-43C7-8357-A1E3FD3C22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006B5DE-651C-4719-9107-1B546FCD10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B06603C-C621-4F39-9D4F-31A2CBD327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90871-91AB-4E95-AC18-A91F1AC98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AF1BC2D-49A8-4303-AB6E-080CB8ADC2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4FDE69A-846B-4023-813D-3A798708EC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682B2C6-B6E3-4F48-B67F-228A1A0D07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D9BD72D7-0561-4F2A-8645-809D0132A6F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E42A4AD2-FEC4-4D18-B1FD-08E290B25F4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E1956-39EB-4AED-AF2E-900933F381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Connecteur droit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Connecteur droit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Connecteur droit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Connecteur droit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Ellipse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EA7C1-B5C9-4352-BF65-9E09E76BC131}" type="slidenum">
              <a:rPr b="1"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9"/>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Rectangle 11"/>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Rectangle 13"/>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Connecteur droit 10"/>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Connecteur droit 17"/>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Connecteur droit 19"/>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Connecteur droit 1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Connecteur droit 1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Connecteur droit 21"/>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Ellipse 20"/>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Ellipse 22"/>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Ellipse 23"/>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Ellipse 25"/>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Ellipse 24"/>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676B1-9632-49FB-AE85-297E62B9E166}" type="slidenum">
              <a:rPr b="1"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Connecteur droit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Connecteur droit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Connecteur droit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Connecteur droit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Ellipse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96362-DDD9-4613-897B-740E94E6570B}" type="slidenum">
              <a:rPr b="1"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8"/>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Rectangle 9"/>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Rectangle 10"/>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Rectangle 11"/>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Connecteur droit 12"/>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Connecteur droit 13"/>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Connecteur droit 14"/>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Connecteur droit 1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Connecteur droit 16"/>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Rectangle 1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Ellipse 1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Ellipse 19"/>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Ellipse 2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Ellipse 21"/>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Ellipse 22"/>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Connecteur droit 25"/>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45E87-0A00-4120-B06F-528A3BEA06AC}" type="slidenum">
              <a:rPr b="1"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Connecteur droit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Connecteur droit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Connecteur droit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Connecteur droit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Ellipse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249E3-2021-4DA3-BB64-41D9996C0F30}" type="slidenum">
              <a:rPr b="1"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Connecteur droit 9"/>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Connecteur droit 7"/>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Connecteur droit 8"/>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Connecteur droit 10"/>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9" name="Rectangle 11"/>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Connecteur droit 12"/>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1" name="Ellipse 1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1FD5B-0135-42B0-A12D-8981CA1C46C3}" type="slidenum">
              <a:rPr b="1"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Connecteur droit 8"/>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Ellipse 12"/>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Connecteur droit 9"/>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6" name="Rectangle 10"/>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Connecteur droit 11"/>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8" name="Connecteur droit 18"/>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9" name="Connecteur droit 19"/>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61F46-5C83-421B-9072-2E7F6874C81F}" type="slidenum">
              <a:rPr b="1"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4360" y="169992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575f6d"/>
                </a:solidFill>
                <a:latin typeface="Century Schoolbook"/>
              </a:rPr>
              <a:t>LE PROJET ET SA PÉDAGOGIE, </a:t>
            </a:r>
            <a:br>
              <a:rPr sz="3000"/>
            </a:br>
            <a:r>
              <a:rPr b="1" lang="fr-FR" sz="3000" spc="-1" strike="noStrike">
                <a:solidFill>
                  <a:srgbClr val="575f6d"/>
                </a:solidFill>
                <a:latin typeface="Century Schoolbook"/>
              </a:rPr>
              <a:t>OBJET DE L’ÉVALUATION EN ISN</a:t>
            </a:r>
            <a:br>
              <a:rPr sz="3000"/>
            </a:br>
            <a:endParaRPr b="0" lang="en-US" sz="3000" spc="-1" strike="noStrike">
              <a:solidFill>
                <a:srgbClr val="575f6d"/>
              </a:solidFill>
              <a:latin typeface="Century Schoolbook"/>
            </a:endParaRPr>
          </a:p>
        </p:txBody>
      </p:sp>
      <p:sp>
        <p:nvSpPr>
          <p:cNvPr id="359" name="PlaceHolder 2"/>
          <p:cNvSpPr>
            <a:spLocks noGrp="1"/>
          </p:cNvSpPr>
          <p:nvPr>
            <p:ph type="subTitle"/>
          </p:nvPr>
        </p:nvSpPr>
        <p:spPr>
          <a:xfrm>
            <a:off x="3492000" y="4508640"/>
            <a:ext cx="5115240" cy="11016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575f6d"/>
                </a:solidFill>
                <a:latin typeface="Century Schoolbook"/>
              </a:rPr>
              <a:t>Journée de Formation ISN</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575f6d"/>
                </a:solidFill>
                <a:latin typeface="Century Schoolbook"/>
              </a:rPr>
              <a:t>12/01/2012</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575f6d"/>
                </a:solidFill>
                <a:latin typeface="Century Schoolbook"/>
              </a:rPr>
              <a:t>Lille</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575f6d"/>
                </a:solidFill>
                <a:latin typeface="Century Schoolbook"/>
              </a:rPr>
              <a:t>L’ÉVALUATION</a:t>
            </a:r>
            <a:endParaRPr b="0" lang="en-US" sz="3000" spc="-1" strike="noStrike">
              <a:solidFill>
                <a:srgbClr val="575f6d"/>
              </a:solidFill>
              <a:latin typeface="Century Schoolbook"/>
            </a:endParaRPr>
          </a:p>
        </p:txBody>
      </p:sp>
      <p:sp>
        <p:nvSpPr>
          <p:cNvPr id="386"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Schoolbook"/>
              </a:rPr>
              <a:t>L’activité de projet laisse de l’autonomie aux élèves pour une démarche d’exploration, et d’investigation. Elle implique des tâtonnements, voire des échecs, dont les élèves se servent pour écarter des éléments de solution. </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Schoolbook"/>
              </a:rPr>
              <a:t>Cela a également une incidence sur l’évaluation qui est menée sur le projet. Ainsi, </a:t>
            </a:r>
            <a:r>
              <a:rPr b="0" i="1" lang="fr-FR" sz="2000" spc="-1" strike="noStrike" u="sng">
                <a:solidFill>
                  <a:srgbClr val="000000"/>
                </a:solidFill>
                <a:uFillTx/>
                <a:latin typeface="Century Schoolbook"/>
              </a:rPr>
              <a:t>le système de notation doit chercher à valoriser la démarche.</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Schoolbook"/>
              </a:rPr>
              <a:t>Dans le cas où un projet a donné lieu à la matérialisation d’une solution, il ne s’agit en aucun cas d’évaluer la réalisation vis-à-vis de sa conformité à des règles de l’art. </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Schoolbook"/>
              </a:rPr>
              <a:t>L’objectif du projet réside dans l’apprentissage de l’autonomie, dans la capacité à développer des propositions créatives et originales, dans le réinvestissement et le renforcement des connaissances et des capacités pluridisciplinaires.</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575f6d"/>
                </a:solidFill>
                <a:latin typeface="Century Schoolbook"/>
              </a:rPr>
              <a:t>L’ÉPREUVE D’EXAMEN</a:t>
            </a:r>
            <a:endParaRPr b="0" lang="en-US" sz="3000" spc="-1" strike="noStrike">
              <a:solidFill>
                <a:srgbClr val="575f6d"/>
              </a:solidFill>
              <a:latin typeface="Century Schoolbook"/>
            </a:endParaRPr>
          </a:p>
        </p:txBody>
      </p:sp>
      <p:sp>
        <p:nvSpPr>
          <p:cNvPr id="388" name=""/>
          <p:cNvSpPr txBox="1"/>
          <p:nvPr/>
        </p:nvSpPr>
        <p:spPr>
          <a:xfrm>
            <a:off x="457200" y="1600200"/>
            <a:ext cx="807552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entury Schoolbook"/>
              </a:rPr>
              <a:t>Se déroule pendant le temps scolaire, Coef 2</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entury Schoolbook"/>
              </a:rPr>
              <a:t>Commission d’interrogation composée d’un professeur ayant suivi l’élève en ISN et d’un autre professeur</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entury Schoolbook"/>
              </a:rPr>
              <a:t>S’appuie sur un projet réalisé durant l’année</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entury Schoolbook"/>
              </a:rPr>
              <a:t>Oral de 20 min en deux parties:</a:t>
            </a:r>
            <a:endParaRPr b="0" lang="en-US" sz="2800" spc="-1" strike="noStrike">
              <a:solidFill>
                <a:srgbClr val="000000"/>
              </a:solidFill>
              <a:latin typeface="Century Schoolbook"/>
            </a:endParaRPr>
          </a:p>
          <a:p>
            <a:pPr lvl="1" marL="520560" indent="-272880">
              <a:spcBef>
                <a:spcPts val="524"/>
              </a:spcBef>
              <a:buClr>
                <a:srgbClr val="f5cd2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6c6c6c"/>
                </a:solidFill>
                <a:latin typeface="Century Schoolbook"/>
              </a:rPr>
              <a:t>Exposé sans interruption de 8 min sur le projet</a:t>
            </a:r>
            <a:endParaRPr b="0" lang="en-US" sz="2100" spc="-1" strike="noStrike">
              <a:solidFill>
                <a:srgbClr val="000000"/>
              </a:solidFill>
              <a:latin typeface="Century Schoolbook"/>
            </a:endParaRPr>
          </a:p>
          <a:p>
            <a:pPr lvl="1" marL="520560" indent="-272880">
              <a:spcBef>
                <a:spcPts val="524"/>
              </a:spcBef>
              <a:buClr>
                <a:srgbClr val="f5cd2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6c6c6c"/>
                </a:solidFill>
                <a:latin typeface="Century Schoolbook"/>
              </a:rPr>
              <a:t>Entretien avec le jury de 12 min pouvant s’élargir à des domaines du programme non traités dans le projet</a:t>
            </a:r>
            <a:endParaRPr b="0" lang="en-US" sz="2100" spc="-1" strike="noStrike">
              <a:solidFill>
                <a:srgbClr val="000000"/>
              </a:solidFill>
              <a:latin typeface="Century Schoolbook"/>
            </a:endParaRPr>
          </a:p>
        </p:txBody>
      </p:sp>
      <p:pic>
        <p:nvPicPr>
          <p:cNvPr id="389" name="Image 4" descr="pdf.jpg"/>
          <p:cNvPicPr/>
          <p:nvPr/>
        </p:nvPicPr>
        <p:blipFill>
          <a:blip r:embed="rId1"/>
          <a:stretch/>
        </p:blipFill>
        <p:spPr>
          <a:xfrm>
            <a:off x="6804000" y="6019920"/>
            <a:ext cx="1305000" cy="838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575f6d"/>
                </a:solidFill>
                <a:latin typeface="Century Schoolbook"/>
              </a:rPr>
              <a:t>CRITÈRE D’ÉVALUATION DE LA PREMIÈRE PARTIE</a:t>
            </a:r>
            <a:endParaRPr b="0" lang="en-US" sz="3000" spc="-1" strike="noStrike">
              <a:solidFill>
                <a:srgbClr val="575f6d"/>
              </a:solidFill>
              <a:latin typeface="Century Schoolbook"/>
            </a:endParaRPr>
          </a:p>
        </p:txBody>
      </p:sp>
      <p:sp>
        <p:nvSpPr>
          <p:cNvPr id="391"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entury Schoolbook"/>
              </a:rPr>
              <a:t>Ce projet est structuré de façon à mettre en évidence:</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entury Schoolbook"/>
              </a:rPr>
              <a:t>Le but visé et les moyens choisis pour atteindre se but</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entury Schoolbook"/>
              </a:rPr>
              <a:t>La démarche de projet qui a conduit au résultat tel que présenté</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entury Schoolbook"/>
              </a:rPr>
              <a:t>La dimension collaborative du projet liée au travail en équipe (2 à 3 élèves).</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575f6d"/>
                </a:solidFill>
                <a:latin typeface="Century Schoolbook"/>
              </a:rPr>
              <a:t>DEUXIÈME PARTIE: DIALOGUE AVEC LA COMMISSION D’ÉVALUATION</a:t>
            </a:r>
            <a:endParaRPr b="0" lang="en-US" sz="3000" spc="-1" strike="noStrike">
              <a:solidFill>
                <a:srgbClr val="575f6d"/>
              </a:solidFill>
              <a:latin typeface="Century Schoolbook"/>
            </a:endParaRPr>
          </a:p>
        </p:txBody>
      </p:sp>
      <p:sp>
        <p:nvSpPr>
          <p:cNvPr id="393" name=""/>
          <p:cNvSpPr txBox="1"/>
          <p:nvPr/>
        </p:nvSpPr>
        <p:spPr>
          <a:xfrm>
            <a:off x="456840" y="1600200"/>
            <a:ext cx="7467480" cy="4873680"/>
          </a:xfrm>
          <a:prstGeom prst="rect">
            <a:avLst/>
          </a:prstGeom>
          <a:noFill/>
          <a:ln w="0">
            <a:noFill/>
          </a:ln>
        </p:spPr>
        <p:txBody>
          <a:bodyPr lIns="90000" rIns="90000" tIns="46800" bIns="46800" anchor="t">
            <a:normAutofit/>
          </a:bodyPr>
          <a:p>
            <a:pPr lvl="1"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entury Schoolbook"/>
              </a:rPr>
              <a:t>L’interrogation du candidat par la commission porte sur les différents aspects de son projet</a:t>
            </a:r>
            <a:endParaRPr b="0" lang="en-US" sz="2100" spc="-1" strike="noStrike">
              <a:solidFill>
                <a:srgbClr val="000000"/>
              </a:solidFill>
              <a:latin typeface="Century Schoolbook"/>
            </a:endParaRPr>
          </a:p>
          <a:p>
            <a:pPr lvl="1"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entury Schoolbook"/>
              </a:rPr>
              <a:t> </a:t>
            </a:r>
            <a:endParaRPr b="0" lang="en-US" sz="2100" spc="-1" strike="noStrike">
              <a:solidFill>
                <a:srgbClr val="000000"/>
              </a:solidFill>
              <a:latin typeface="Century Schoolbook"/>
            </a:endParaRPr>
          </a:p>
          <a:p>
            <a:pPr lvl="1"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entury Schoolbook"/>
              </a:rPr>
              <a:t>Elargissement du questionnement aux compétences du programme non abordées dans le projet. Cette interrogation a pour but de vérifier que le candidat s ’est approprié les notions fondamentales et sait les utiliser dans un contexte particulier ou les relier à d’autres enseignements scientifiques de la série.</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575f6d"/>
                </a:solidFill>
                <a:latin typeface="Century Schoolbook"/>
              </a:rPr>
              <a:t>PROJET ET PÉDAGOGIE DE PROJET</a:t>
            </a:r>
            <a:endParaRPr b="0" lang="en-US" sz="3000" spc="-1" strike="noStrike">
              <a:solidFill>
                <a:srgbClr val="575f6d"/>
              </a:solidFill>
              <a:latin typeface="Century Schoolbook"/>
            </a:endParaRPr>
          </a:p>
        </p:txBody>
      </p:sp>
      <p:sp>
        <p:nvSpPr>
          <p:cNvPr id="361"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entury Schoolbook"/>
              </a:rPr>
              <a:t>Selon le BO du 13/10/2011:</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entury Schoolbook"/>
              </a:rPr>
              <a:t> </a:t>
            </a:r>
            <a:r>
              <a:rPr b="0" lang="fr-FR" sz="2400" spc="-1" strike="noStrike">
                <a:solidFill>
                  <a:srgbClr val="000000"/>
                </a:solidFill>
                <a:latin typeface="Century Schoolbook"/>
              </a:rPr>
              <a:t>L’élève doit être mis en situation d’activité en privilégiant la pédagogie de proje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entury Schoolbook"/>
              </a:rPr>
              <a:t>Les projets réalisés par les élèves constituent un apprentissage fondamental tant pour la compréhension de l’ISN que de l’acquisition des compétences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entury Schoolbook"/>
              </a:rPr>
              <a:t>	</a:t>
            </a:r>
            <a:r>
              <a:rPr b="0" lang="fr-FR" sz="2400" spc="-1" strike="noStrike">
                <a:solidFill>
                  <a:srgbClr val="000000"/>
                </a:solidFill>
                <a:latin typeface="Century Schoolbook"/>
              </a:rPr>
              <a:t>Démarche de projet et pédagogie de projet sont deux notions différente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62" name="Picture 3" descr="C:\Documents and Settings\utilisateur\Local Settings\Temporary Internet Files\Content.IE5\6QJ0P6MO\MC900434750[1].png"/>
          <p:cNvPicPr/>
          <p:nvPr/>
        </p:nvPicPr>
        <p:blipFill>
          <a:blip r:embed="rId1"/>
          <a:stretch/>
        </p:blipFill>
        <p:spPr>
          <a:xfrm>
            <a:off x="250920" y="4653000"/>
            <a:ext cx="1130040" cy="1128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575f6d"/>
                </a:solidFill>
                <a:latin typeface="Century Schoolbook"/>
              </a:rPr>
              <a:t>QU’EST-CE QU’UN PROJET</a:t>
            </a:r>
            <a:endParaRPr b="0" lang="en-US" sz="3000" spc="-1" strike="noStrike">
              <a:solidFill>
                <a:srgbClr val="575f6d"/>
              </a:solidFill>
              <a:latin typeface="Century Schoolbook"/>
            </a:endParaRPr>
          </a:p>
        </p:txBody>
      </p:sp>
      <p:sp>
        <p:nvSpPr>
          <p:cNvPr id="364"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entury Schoolbook"/>
              </a:rPr>
              <a:t>Il se décline selon deux formes spécifiqu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entury Schoolbook"/>
              </a:rPr>
              <a:t>Le projet de formation, qui se déroule à n’importe quel moment du plan de formation à l’initiative de l’enseignant (du mini-projet fédérateur d’activités de formation aux projets de synthèse de connaissanc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entury Schoolbook"/>
              </a:rPr>
              <a:t>Le projet terminal d’évaluation qui se déroule selon les modalités précisées dans le règlement d’examen:</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575f6d"/>
                </a:solidFill>
                <a:latin typeface="Century Schoolbook"/>
              </a:rPr>
              <a:t>LE PROJET EN ISN</a:t>
            </a:r>
            <a:endParaRPr b="0" lang="en-US" sz="3000" spc="-1" strike="noStrike">
              <a:solidFill>
                <a:srgbClr val="575f6d"/>
              </a:solidFill>
              <a:latin typeface="Century Schoolbook"/>
            </a:endParaRPr>
          </a:p>
        </p:txBody>
      </p:sp>
      <p:sp>
        <p:nvSpPr>
          <p:cNvPr id="366" name=""/>
          <p:cNvSpPr txBox="1"/>
          <p:nvPr/>
        </p:nvSpPr>
        <p:spPr>
          <a:xfrm>
            <a:off x="457200" y="1599840"/>
            <a:ext cx="8229600" cy="247644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entury Schoolbook"/>
              </a:rPr>
              <a:t>Occupe la 2</a:t>
            </a:r>
            <a:r>
              <a:rPr b="0" lang="fr-FR" sz="2800" spc="-1" strike="noStrike" baseline="30000">
                <a:solidFill>
                  <a:srgbClr val="000000"/>
                </a:solidFill>
                <a:latin typeface="Century Schoolbook"/>
              </a:rPr>
              <a:t>nde</a:t>
            </a:r>
            <a:r>
              <a:rPr b="0" lang="fr-FR" sz="2800" spc="-1" strike="noStrike">
                <a:solidFill>
                  <a:srgbClr val="000000"/>
                </a:solidFill>
                <a:latin typeface="Century Schoolbook"/>
              </a:rPr>
              <a:t> partie de l’année</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entury Schoolbook"/>
              </a:rPr>
              <a:t>Peut porter sur des problématiques issues d’autres disciplines</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entury Schoolbook"/>
              </a:rPr>
              <a:t>Groupes de 2 à 3 élèves</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entury Schoolbook"/>
              </a:rPr>
              <a:t> </a:t>
            </a:r>
            <a:r>
              <a:rPr b="0" lang="fr-FR" sz="2800" spc="-1" strike="noStrike">
                <a:solidFill>
                  <a:srgbClr val="000000"/>
                </a:solidFill>
                <a:latin typeface="Century Schoolbook"/>
              </a:rPr>
              <a:t>Rapport écrit d’une dizaine de pages</a:t>
            </a:r>
            <a:endParaRPr b="0" lang="en-US" sz="2800" spc="-1" strike="noStrike">
              <a:solidFill>
                <a:srgbClr val="000000"/>
              </a:solidFill>
              <a:latin typeface="Century Schoolbook"/>
            </a:endParaRPr>
          </a:p>
        </p:txBody>
      </p:sp>
      <p:sp>
        <p:nvSpPr>
          <p:cNvPr id="367" name="ZoneTexte 3"/>
          <p:cNvSpPr/>
          <p:nvPr/>
        </p:nvSpPr>
        <p:spPr>
          <a:xfrm>
            <a:off x="539640" y="4221000"/>
            <a:ext cx="756144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Schoolbook"/>
              </a:rPr>
              <a:t>Les compétences développées sont regroupées ainsi:</a:t>
            </a:r>
            <a:endParaRPr b="0" lang="en-US" sz="2000" spc="-1" strike="noStrike">
              <a:solidFill>
                <a:srgbClr val="000000"/>
              </a:solidFill>
              <a:latin typeface="Century Schoolbook"/>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Schoolbook"/>
              </a:rPr>
              <a:t> </a:t>
            </a:r>
            <a:r>
              <a:rPr b="0" lang="fr-FR" sz="2000" spc="-1" strike="noStrike">
                <a:solidFill>
                  <a:srgbClr val="000000"/>
                </a:solidFill>
                <a:latin typeface="Century Schoolbook"/>
              </a:rPr>
              <a:t>proposer une approche fonctionnelle qui réponde aux besoins</a:t>
            </a:r>
            <a:endParaRPr b="0" lang="en-US" sz="2000" spc="-1" strike="noStrike">
              <a:solidFill>
                <a:srgbClr val="000000"/>
              </a:solidFill>
              <a:latin typeface="Century Schoolbook"/>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Schoolbook"/>
              </a:rPr>
              <a:t> </a:t>
            </a:r>
            <a:r>
              <a:rPr b="0" lang="fr-FR" sz="2000" spc="-1" strike="noStrike">
                <a:solidFill>
                  <a:srgbClr val="000000"/>
                </a:solidFill>
                <a:latin typeface="Century Schoolbook"/>
              </a:rPr>
              <a:t>conduire des recherches documentaires</a:t>
            </a:r>
            <a:endParaRPr b="0" lang="en-US" sz="2000" spc="-1" strike="noStrike">
              <a:solidFill>
                <a:srgbClr val="000000"/>
              </a:solidFill>
              <a:latin typeface="Century Schoolbook"/>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Schoolbook"/>
              </a:rPr>
              <a:t> </a:t>
            </a:r>
            <a:r>
              <a:rPr b="0" lang="fr-FR" sz="2000" spc="-1" strike="noStrike">
                <a:solidFill>
                  <a:srgbClr val="000000"/>
                </a:solidFill>
                <a:latin typeface="Century Schoolbook"/>
              </a:rPr>
              <a:t>concevoir des programmes en autonomie</a:t>
            </a:r>
            <a:endParaRPr b="0" lang="en-US" sz="2000" spc="-1" strike="noStrike">
              <a:solidFill>
                <a:srgbClr val="000000"/>
              </a:solidFill>
              <a:latin typeface="Century Schoolbook"/>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Schoolbook"/>
              </a:rPr>
              <a:t> </a:t>
            </a:r>
            <a:r>
              <a:rPr b="0" lang="fr-FR" sz="2000" spc="-1" strike="noStrike">
                <a:solidFill>
                  <a:srgbClr val="000000"/>
                </a:solidFill>
                <a:latin typeface="Century Schoolbook"/>
              </a:rPr>
              <a:t>gérer les étapes de l'avancement du projet en dialogue et en interaction avec le professeur</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66">
                                            <p:txEl>
                                              <p:pRg st="0" end="0"/>
                                            </p:txEl>
                                          </p:spTgt>
                                        </p:tgtEl>
                                        <p:attrNameLst>
                                          <p:attrName>style.visibility</p:attrName>
                                        </p:attrNameLst>
                                      </p:cBhvr>
                                      <p:to>
                                        <p:strVal val="visible"/>
                                      </p:to>
                                    </p:set>
                                    <p:anim calcmode="lin" valueType="num">
                                      <p:cBhvr additive="base">
                                        <p:cTn id="7" dur="500" fill="hold"/>
                                        <p:tgtEl>
                                          <p:spTgt spid="36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3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66">
                                            <p:txEl>
                                              <p:pRg st="1" end="1"/>
                                            </p:txEl>
                                          </p:spTgt>
                                        </p:tgtEl>
                                        <p:attrNameLst>
                                          <p:attrName>style.visibility</p:attrName>
                                        </p:attrNameLst>
                                      </p:cBhvr>
                                      <p:to>
                                        <p:strVal val="visible"/>
                                      </p:to>
                                    </p:set>
                                    <p:anim calcmode="lin" valueType="num">
                                      <p:cBhvr additive="base">
                                        <p:cTn id="13" dur="500" fill="hold"/>
                                        <p:tgtEl>
                                          <p:spTgt spid="366">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3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66">
                                            <p:txEl>
                                              <p:pRg st="2" end="2"/>
                                            </p:txEl>
                                          </p:spTgt>
                                        </p:tgtEl>
                                        <p:attrNameLst>
                                          <p:attrName>style.visibility</p:attrName>
                                        </p:attrNameLst>
                                      </p:cBhvr>
                                      <p:to>
                                        <p:strVal val="visible"/>
                                      </p:to>
                                    </p:set>
                                    <p:anim calcmode="lin" valueType="num">
                                      <p:cBhvr additive="base">
                                        <p:cTn id="19" dur="500" fill="hold"/>
                                        <p:tgtEl>
                                          <p:spTgt spid="366">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66">
                                            <p:txEl>
                                              <p:pRg st="3" end="3"/>
                                            </p:txEl>
                                          </p:spTgt>
                                        </p:tgtEl>
                                        <p:attrNameLst>
                                          <p:attrName>style.visibility</p:attrName>
                                        </p:attrNameLst>
                                      </p:cBhvr>
                                      <p:to>
                                        <p:strVal val="visible"/>
                                      </p:to>
                                    </p:set>
                                    <p:anim calcmode="lin" valueType="num">
                                      <p:cBhvr additive="base">
                                        <p:cTn id="25" dur="500" fill="hold"/>
                                        <p:tgtEl>
                                          <p:spTgt spid="366">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3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67"/>
                                        </p:tgtEl>
                                        <p:attrNameLst>
                                          <p:attrName>style.visibility</p:attrName>
                                        </p:attrNameLst>
                                      </p:cBhvr>
                                      <p:to>
                                        <p:strVal val="visible"/>
                                      </p:to>
                                    </p:set>
                                    <p:anim calcmode="lin" valueType="num">
                                      <p:cBhvr additive="base">
                                        <p:cTn id="31" dur="500" fill="hold"/>
                                        <p:tgtEl>
                                          <p:spTgt spid="367"/>
                                        </p:tgtEl>
                                        <p:attrNameLst>
                                          <p:attrName>ppt_x</p:attrName>
                                        </p:attrNameLst>
                                      </p:cBhvr>
                                      <p:tavLst>
                                        <p:tav tm="0">
                                          <p:val>
                                            <p:strVal val="#ppt_x"/>
                                          </p:val>
                                        </p:tav>
                                        <p:tav tm="100000">
                                          <p:val>
                                            <p:strVal val="#ppt_x"/>
                                          </p:val>
                                        </p:tav>
                                      </p:tavLst>
                                    </p:anim>
                                    <p:anim calcmode="lin" valueType="num">
                                      <p:cBhvr additive="base">
                                        <p:cTn id="32"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575f6d"/>
                </a:solidFill>
                <a:latin typeface="Century Schoolbook"/>
              </a:rPr>
              <a:t>LA DÉMARCHE DE PROJET</a:t>
            </a:r>
            <a:endParaRPr b="0" lang="en-US" sz="3000" spc="-1" strike="noStrike">
              <a:solidFill>
                <a:srgbClr val="575f6d"/>
              </a:solidFill>
              <a:latin typeface="Century Schoolbook"/>
            </a:endParaRPr>
          </a:p>
        </p:txBody>
      </p:sp>
      <p:sp>
        <p:nvSpPr>
          <p:cNvPr id="369" name=""/>
          <p:cNvSpPr txBox="1"/>
          <p:nvPr/>
        </p:nvSpPr>
        <p:spPr>
          <a:xfrm>
            <a:off x="456840" y="1600200"/>
            <a:ext cx="7467480" cy="4873680"/>
          </a:xfrm>
          <a:prstGeom prst="rect">
            <a:avLst/>
          </a:prstGeom>
          <a:noFill/>
          <a:ln w="0">
            <a:noFill/>
          </a:ln>
        </p:spPr>
        <p:txBody>
          <a:bodyPr lIns="90000" rIns="90000" tIns="46800" bIns="4680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entury Schoolbook"/>
              </a:rPr>
              <a:t>Elle encadre la conduite du projet pour résoudre un problème (technique ou pas) partagé et négocié ( et non imposé par le seul enseignant), dans une approche non professionnelle sans obligation de </a:t>
            </a:r>
            <a:r>
              <a:rPr b="0" i="1" lang="fr-FR" sz="2400" spc="-1" strike="noStrike" u="sng">
                <a:solidFill>
                  <a:srgbClr val="ff0000"/>
                </a:solidFill>
                <a:uFillTx/>
                <a:latin typeface="Century Schoolbook"/>
              </a:rPr>
              <a:t>résultat optimisé</a:t>
            </a:r>
            <a:r>
              <a:rPr b="0" lang="fr-FR" sz="2400" spc="-1" strike="noStrike">
                <a:solidFill>
                  <a:srgbClr val="000000"/>
                </a:solidFill>
                <a:latin typeface="Century Schoolbook"/>
              </a:rPr>
              <a:t> , ni d’obligation </a:t>
            </a:r>
            <a:r>
              <a:rPr b="0" i="1" lang="fr-FR" sz="2400" spc="-1" strike="noStrike" u="sng">
                <a:solidFill>
                  <a:srgbClr val="ff0000"/>
                </a:solidFill>
                <a:uFillTx/>
                <a:latin typeface="Century Schoolbook"/>
              </a:rPr>
              <a:t>de qualité du résultat.</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575f6d"/>
                </a:solidFill>
                <a:latin typeface="Century Schoolbook"/>
              </a:rPr>
              <a:t>LA DÉMARCHE DE PROJET</a:t>
            </a:r>
            <a:endParaRPr b="0" lang="en-US" sz="3000" spc="-1" strike="noStrike">
              <a:solidFill>
                <a:srgbClr val="575f6d"/>
              </a:solidFill>
              <a:latin typeface="Century Schoolbook"/>
            </a:endParaRPr>
          </a:p>
        </p:txBody>
      </p:sp>
      <p:sp>
        <p:nvSpPr>
          <p:cNvPr id="371" name=""/>
          <p:cNvSpPr txBox="1"/>
          <p:nvPr/>
        </p:nvSpPr>
        <p:spPr>
          <a:xfrm>
            <a:off x="456840" y="1600200"/>
            <a:ext cx="7467480" cy="4873680"/>
          </a:xfrm>
          <a:prstGeom prst="rect">
            <a:avLst/>
          </a:prstGeom>
          <a:noFill/>
          <a:ln w="0">
            <a:noFill/>
          </a:ln>
        </p:spPr>
        <p:txBody>
          <a:bodyPr lIns="90000" rIns="90000" tIns="46800" bIns="46800" anchor="t">
            <a:normAutofit/>
          </a:bodyPr>
          <a:p>
            <a:pPr marL="355680" indent="-3556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entury Schoolbook"/>
              </a:rPr>
              <a:t>La démarche de projet doit permettre aux élèves de formuler des hypothèses, d’expérimenter sans craindre de se tromper. </a:t>
            </a:r>
            <a:endParaRPr b="0" lang="en-US" sz="1900" spc="-1" strike="noStrike">
              <a:solidFill>
                <a:srgbClr val="000000"/>
              </a:solidFill>
              <a:latin typeface="Century Schoolbook"/>
            </a:endParaRPr>
          </a:p>
          <a:p>
            <a:pPr marL="355680" indent="-355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355680" indent="-3556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entury Schoolbook"/>
              </a:rPr>
              <a:t>Les erreurs, les hésitations, les fausses pistes font partie intégrante de la recherche scientifique. </a:t>
            </a:r>
            <a:endParaRPr b="0" lang="en-US" sz="1900" spc="-1" strike="noStrike">
              <a:solidFill>
                <a:srgbClr val="000000"/>
              </a:solidFill>
              <a:latin typeface="Century Schoolbook"/>
            </a:endParaRPr>
          </a:p>
          <a:p>
            <a:pPr marL="355680" indent="-355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355680" indent="-3556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entury Schoolbook"/>
              </a:rPr>
              <a:t>Le professeur doit veiller à ce que l’élève confronte ses hypothèses à l’observation des systèmes existants et propose des améliorations à son analyse.</a:t>
            </a:r>
            <a:endParaRPr b="0" lang="en-US" sz="1900" spc="-1" strike="noStrike">
              <a:solidFill>
                <a:srgbClr val="000000"/>
              </a:solidFill>
              <a:latin typeface="Century Schoolbook"/>
            </a:endParaRPr>
          </a:p>
          <a:p>
            <a:pPr marL="355680" indent="-355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355680" indent="-3556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entury Schoolbook"/>
              </a:rPr>
              <a:t>Avec cette aide du professeur, les erreurs peuvent être bénéfiques en rendant les élèves prudents par rapport à leurs propres résultats et en développant leur esprit critique.</a:t>
            </a:r>
            <a:endParaRPr b="0" lang="en-US" sz="1900" spc="-1" strike="noStrike">
              <a:solidFill>
                <a:srgbClr val="000000"/>
              </a:solidFill>
              <a:latin typeface="Century Schoolbook"/>
            </a:endParaRPr>
          </a:p>
          <a:p>
            <a:pPr marL="355680" indent="-355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355680" indent="-3556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entury Schoolbook"/>
              </a:rPr>
              <a:t>Les enseignants sont responsables du suivi pédagogique du projet pour diriger, organiser, planifier, en tenant compte des contraintes qui leurs sont imposées</a:t>
            </a:r>
            <a:endParaRPr b="0" lang="en-US" sz="19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575f6d"/>
                </a:solidFill>
                <a:latin typeface="Century Schoolbook"/>
              </a:rPr>
              <a:t>LES ÉTAPES DE LA DÉMARCHE D’UN PROJET</a:t>
            </a:r>
            <a:endParaRPr b="0" lang="en-US" sz="3000" spc="-1" strike="noStrike">
              <a:solidFill>
                <a:srgbClr val="575f6d"/>
              </a:solidFill>
              <a:latin typeface="Century Schoolbook"/>
            </a:endParaRPr>
          </a:p>
        </p:txBody>
      </p:sp>
      <p:pic>
        <p:nvPicPr>
          <p:cNvPr id="373" name="Picture 2" descr=""/>
          <p:cNvPicPr/>
          <p:nvPr/>
        </p:nvPicPr>
        <p:blipFill>
          <a:blip r:embed="rId1"/>
          <a:stretch/>
        </p:blipFill>
        <p:spPr>
          <a:xfrm>
            <a:off x="1547640" y="2060640"/>
            <a:ext cx="5961240" cy="3706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575f6d"/>
                </a:solidFill>
                <a:latin typeface="Century Schoolbook"/>
              </a:rPr>
              <a:t>APPRENTISSAGE PAR PROJET OU APPRENTISSAGE DU PROJET</a:t>
            </a:r>
            <a:endParaRPr b="0" lang="en-US" sz="3000" spc="-1" strike="noStrike">
              <a:solidFill>
                <a:srgbClr val="575f6d"/>
              </a:solidFill>
              <a:latin typeface="Century Schoolbook"/>
            </a:endParaRPr>
          </a:p>
        </p:txBody>
      </p:sp>
      <p:sp>
        <p:nvSpPr>
          <p:cNvPr id="375"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entury Schoolbook"/>
              </a:rPr>
              <a:t>Apprendre par le projet:</a:t>
            </a:r>
            <a:endParaRPr b="0" lang="en-US" sz="24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Schoolbook"/>
              </a:rPr>
              <a:t>En vivant une démarche particulière, motivante et très inductive, où les élèves sont acteurs de leur formation pour atteindre un objectif commun auquel ils adhèrent</a:t>
            </a:r>
            <a:endParaRPr b="0" lang="en-US" sz="20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entury Schoolbook"/>
              </a:rPr>
              <a:t>  </a:t>
            </a:r>
            <a:r>
              <a:rPr b="0" lang="fr-FR" sz="2400" spc="-1" strike="noStrike">
                <a:solidFill>
                  <a:srgbClr val="000000"/>
                </a:solidFill>
                <a:latin typeface="Century Schoolbook"/>
              </a:rPr>
              <a:t>Apprendre à maitriser les formes du projet</a:t>
            </a:r>
            <a:endParaRPr b="0" lang="en-US" sz="24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Schoolbook"/>
              </a:rPr>
              <a:t>Qui est une démarche complètement intégrée aux activités technologiques qui ont comme caractéristique de devoir répondre à un besoin, en respectant un cahier des charges, des délais … </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Picture 2" descr=""/>
          <p:cNvPicPr/>
          <p:nvPr/>
        </p:nvPicPr>
        <p:blipFill>
          <a:blip r:embed="rId1"/>
          <a:stretch/>
        </p:blipFill>
        <p:spPr>
          <a:xfrm>
            <a:off x="1547640" y="2060640"/>
            <a:ext cx="5961240" cy="3706920"/>
          </a:xfrm>
          <a:prstGeom prst="rect">
            <a:avLst/>
          </a:prstGeom>
          <a:ln w="0">
            <a:noFill/>
          </a:ln>
        </p:spPr>
      </p:pic>
      <p:grpSp>
        <p:nvGrpSpPr>
          <p:cNvPr id="377" name="Groupe 7"/>
          <p:cNvGrpSpPr/>
          <p:nvPr/>
        </p:nvGrpSpPr>
        <p:grpSpPr>
          <a:xfrm>
            <a:off x="179280" y="1268280"/>
            <a:ext cx="5400720" cy="4392720"/>
            <a:chOff x="179280" y="1268280"/>
            <a:chExt cx="5400720" cy="4392720"/>
          </a:xfrm>
        </p:grpSpPr>
        <p:sp>
          <p:nvSpPr>
            <p:cNvPr id="378" name="Rectangle à coins arrondis 5"/>
            <p:cNvSpPr/>
            <p:nvPr/>
          </p:nvSpPr>
          <p:spPr>
            <a:xfrm>
              <a:off x="2289960" y="2132280"/>
              <a:ext cx="3290040" cy="3528720"/>
            </a:xfrm>
            <a:custGeom>
              <a:avLst/>
              <a:gdLst>
                <a:gd name="textAreaLeft" fmla="*/ 160560 w 3290040"/>
                <a:gd name="textAreaRight" fmla="*/ 3129480 w 3290040"/>
                <a:gd name="textAreaTop" fmla="*/ 160560 h 3528720"/>
                <a:gd name="textAreaBottom" fmla="*/ 3368160 h 3528720"/>
              </a:gdLst>
              <a:ahLst/>
              <a:rect l="textAreaLeft" t="textAreaTop" r="textAreaRight" b="textAreaBottom"/>
              <a:pathLst>
                <a:path w="21600" h="23167">
                  <a:moveTo>
                    <a:pt x="3600" y="0"/>
                  </a:moveTo>
                  <a:arcTo wR="3600" hR="3600" stAng="16200000" swAng="-5400000"/>
                  <a:lnTo>
                    <a:pt x="0" y="19567"/>
                  </a:lnTo>
                  <a:arcTo wR="3600" hR="3600" stAng="10800000" swAng="-5400000"/>
                  <a:lnTo>
                    <a:pt x="18000" y="23167"/>
                  </a:lnTo>
                  <a:arcTo wR="3600" hR="3600" stAng="5400000" swAng="-5400000"/>
                  <a:lnTo>
                    <a:pt x="21600" y="3600"/>
                  </a:lnTo>
                  <a:arcTo wR="3600" hR="3600" stAng="0" swAng="-5400000"/>
                  <a:close/>
                </a:path>
              </a:pathLst>
            </a:custGeom>
            <a:solidFill>
              <a:srgbClr val="adb0b5">
                <a:alpha val="42000"/>
              </a:srgbClr>
            </a:solidFill>
            <a:ln w="25560">
              <a:solidFill>
                <a:srgbClr val="595d6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79" name="Rectangle à coins arrondis 6"/>
            <p:cNvSpPr/>
            <p:nvPr/>
          </p:nvSpPr>
          <p:spPr>
            <a:xfrm>
              <a:off x="179280" y="1268280"/>
              <a:ext cx="2304360" cy="1152000"/>
            </a:xfrm>
            <a:prstGeom prst="wedgeRoundRectCallout">
              <a:avLst>
                <a:gd name="adj1" fmla="val 39500"/>
                <a:gd name="adj2" fmla="val 108365"/>
                <a:gd name="adj3" fmla="val 16667"/>
              </a:avLst>
            </a:prstGeom>
            <a:solidFill>
              <a:srgbClr val="adb0b5">
                <a:alpha val="70000"/>
              </a:srgbClr>
            </a:solidFill>
            <a:ln w="25560">
              <a:solidFill>
                <a:srgbClr val="595d6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entury Schoolbook"/>
                </a:rPr>
                <a:t>Apprentissage par le projet: </a:t>
              </a:r>
              <a:endParaRPr b="0" lang="en-US" sz="1800" spc="-1" strike="noStrike">
                <a:solidFill>
                  <a:srgbClr val="0000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entury Schoolbook"/>
                </a:rPr>
                <a:t>pédagogie de projet</a:t>
              </a:r>
              <a:endParaRPr b="0" lang="en-US" sz="1800" spc="-1" strike="noStrike">
                <a:solidFill>
                  <a:srgbClr val="000000"/>
                </a:solidFill>
                <a:latin typeface="Century Schoolbook"/>
              </a:endParaRPr>
            </a:p>
          </p:txBody>
        </p:sp>
      </p:grpSp>
      <p:grpSp>
        <p:nvGrpSpPr>
          <p:cNvPr id="380" name="Groupe 14"/>
          <p:cNvGrpSpPr/>
          <p:nvPr/>
        </p:nvGrpSpPr>
        <p:grpSpPr>
          <a:xfrm>
            <a:off x="1547640" y="1341360"/>
            <a:ext cx="7377120" cy="3527280"/>
            <a:chOff x="1547640" y="1341360"/>
            <a:chExt cx="7377120" cy="3527280"/>
          </a:xfrm>
        </p:grpSpPr>
        <p:sp>
          <p:nvSpPr>
            <p:cNvPr id="381" name="Rectangle à coins arrondis 9"/>
            <p:cNvSpPr/>
            <p:nvPr/>
          </p:nvSpPr>
          <p:spPr>
            <a:xfrm>
              <a:off x="1547640" y="3357000"/>
              <a:ext cx="4248000" cy="1511640"/>
            </a:xfrm>
            <a:prstGeom prst="roundRect">
              <a:avLst>
                <a:gd name="adj" fmla="val 16667"/>
              </a:avLst>
            </a:prstGeom>
            <a:solidFill>
              <a:srgbClr val="fe8637">
                <a:alpha val="20000"/>
              </a:srgbClr>
            </a:solidFill>
            <a:ln w="25560">
              <a:solidFill>
                <a:srgbClr val="bb61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82" name="Rectangle à coins arrondis 10"/>
            <p:cNvSpPr/>
            <p:nvPr/>
          </p:nvSpPr>
          <p:spPr>
            <a:xfrm>
              <a:off x="6011640" y="1341360"/>
              <a:ext cx="2913120" cy="1083960"/>
            </a:xfrm>
            <a:prstGeom prst="wedgeRoundRectCallout">
              <a:avLst>
                <a:gd name="adj1" fmla="val -56087"/>
                <a:gd name="adj2" fmla="val 202615"/>
                <a:gd name="adj3" fmla="val 16667"/>
              </a:avLst>
            </a:prstGeom>
            <a:solidFill>
              <a:srgbClr val="fe8637">
                <a:alpha val="64000"/>
              </a:srgbClr>
            </a:solidFill>
            <a:ln w="25560">
              <a:solidFill>
                <a:srgbClr val="bb61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entury Schoolbook"/>
                </a:rPr>
                <a:t>Apprentissage des formes (ou des étapes)  du projet: Maitrise de la démarche</a:t>
              </a:r>
              <a:endParaRPr b="0" lang="en-US" sz="1600" spc="-1" strike="noStrike">
                <a:solidFill>
                  <a:srgbClr val="0000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grpSp>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575f6d"/>
                </a:solidFill>
                <a:latin typeface="Century Schoolbook"/>
              </a:rPr>
              <a:t>LA DÉMARCHE PÉDAGOGIQUE ET SITUATION D’APPRENTISSAGE </a:t>
            </a:r>
            <a:endParaRPr b="0" lang="en-US" sz="4000" spc="-1" strike="noStrike">
              <a:solidFill>
                <a:srgbClr val="575f6d"/>
              </a:solidFill>
              <a:latin typeface="Century Schoolbook"/>
            </a:endParaRPr>
          </a:p>
        </p:txBody>
      </p:sp>
      <p:sp>
        <p:nvSpPr>
          <p:cNvPr id="384" name="ZoneTexte 13"/>
          <p:cNvSpPr/>
          <p:nvPr/>
        </p:nvSpPr>
        <p:spPr>
          <a:xfrm>
            <a:off x="395280" y="5805360"/>
            <a:ext cx="8424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entury Schoolbook"/>
              </a:rPr>
              <a:t>Ces deux aspects des apprentissages justifient de  considérer le projet comme une démarche pédagogique et comme une situation d’apprentissage</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376"/>
                                        </p:tgtEl>
                                        <p:attrNameLst>
                                          <p:attrName>style.visibility</p:attrName>
                                        </p:attrNameLst>
                                      </p:cBhvr>
                                      <p:to>
                                        <p:strVal val="visible"/>
                                      </p:to>
                                    </p:set>
                                    <p:animEffect filter="box(in)" transition="in">
                                      <p:cBhvr additive="repl">
                                        <p:cTn id="39" dur="1000"/>
                                        <p:tgtEl>
                                          <p:spTgt spid="376"/>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380"/>
                                        </p:tgtEl>
                                        <p:attrNameLst>
                                          <p:attrName>style.visibility</p:attrName>
                                        </p:attrNameLst>
                                      </p:cBhvr>
                                      <p:to>
                                        <p:strVal val="visible"/>
                                      </p:to>
                                    </p:set>
                                    <p:animEffect filter="box(in)" transition="in">
                                      <p:cBhvr additive="repl">
                                        <p:cTn id="44" dur="1000"/>
                                        <p:tgtEl>
                                          <p:spTgt spid="380"/>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377"/>
                                        </p:tgtEl>
                                        <p:attrNameLst>
                                          <p:attrName>style.visibility</p:attrName>
                                        </p:attrNameLst>
                                      </p:cBhvr>
                                      <p:to>
                                        <p:strVal val="visible"/>
                                      </p:to>
                                    </p:set>
                                    <p:animEffect filter="box(in)" transition="in">
                                      <p:cBhvr additive="repl">
                                        <p:cTn id="49" dur="1000"/>
                                        <p:tgtEl>
                                          <p:spTgt spid="377"/>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384"/>
                                        </p:tgtEl>
                                        <p:attrNameLst>
                                          <p:attrName>style.visibility</p:attrName>
                                        </p:attrNameLst>
                                      </p:cBhvr>
                                      <p:to>
                                        <p:strVal val="visible"/>
                                      </p:to>
                                    </p:set>
                                    <p:animEffect filter="box(in)" transition="in">
                                      <p:cBhvr additive="repl">
                                        <p:cTn id="54" dur="10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8T10:51:01Z</dcterms:created>
  <dc:creator>utilisateur</dc:creator>
  <dc:description/>
  <dc:language>en-US</dc:language>
  <cp:lastModifiedBy>christophe.dyl</cp:lastModifiedBy>
  <dcterms:modified xsi:type="dcterms:W3CDTF">2012-11-30T10:38:58Z</dcterms:modified>
  <cp:revision>10</cp:revision>
  <dc:subject/>
  <dc:title>Le projet et sa pédagogie,  Objet de l’évaluation en ISN</dc:title>
</cp:coreProperties>
</file>