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170-96C9-4DD4-A528-D1F46BB6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91D1-53D4-46AB-B5E1-60BB259F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48F3-4AE5-421F-AED0-1C052910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32B-D2FA-4A3E-8F55-6FAD5296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5EC6-E9D9-4D2F-B184-F39F282A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32F7-96EC-479A-8690-435AE2FC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85CD-B7C3-422E-A5B2-1463C83D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107E-F64E-4FA1-975D-DC31DD5A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40F1-9F90-440B-8A6D-19FA7949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67AB-DE55-4DB3-97A6-A62855D1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252C-5020-47D6-9973-826F9FA7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A0A9-18B0-46B4-9EAA-FF3D1541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ECB7-993F-4380-A6D3-267CB7BC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BA04-E100-4F6D-8ABE-443B4A30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B1B5-CBA8-4544-8F64-BC239965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EFE2-F829-44A0-B625-C1ADF2E0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7837-CD12-4E1F-B625-5F9C952F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88441-4D31-4CDD-BD68-4D3BB6CC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B2674-5CB9-4441-9B8A-C7A8ABF9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E6054-6646-4EF8-BC3B-6EFD9A1E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BB9BD-DE09-4193-825B-F7E2A579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350E8-C92E-4376-A17C-0D24F2E6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E6F7-558A-44B4-82CB-87BB19ED2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394A5-8A68-4340-B991-BA638004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E4932-0977-462C-9BA0-9D7A7A33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87008-9BA2-4EFE-A034-3FE3248E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320B69-3342-4749-9F1C-B6C760DE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0CCB0-671F-4DD3-BAF2-76A54C5F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0848D-ACC4-4456-A281-350686CE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9CCBA8-4B59-43A2-A474-F9B46261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334ED2-82AD-4545-B14C-9AF41046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6AE3EF-481C-4C3F-A75E-6213FE19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7CB85B-7BC5-4D75-8F4D-71409ED3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327D-56AF-4BB0-B4FB-D174EFBC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5451BB-97B8-4FF8-A5E4-B64695FA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D70BFE-F1BA-4B0C-B8E1-F1EB2A69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09706C-5C2C-4E35-9D37-C65CCB71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3CE499-F314-4CE1-9F21-7CB8F318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196D81-359C-4301-80A4-7D151CD0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C17FE8-68F2-425F-9C6D-F85F4E48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C39D1D-0277-4164-B146-315731C2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B3864D-D2DB-4083-AFE5-16D2C5FE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970995-F744-468A-B8F0-23E19D6D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085205-31F5-4EAE-A2F6-3A990F1C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773-ACB8-4EB0-A382-AED168EA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2BA0D-B22B-4275-A2B7-CB2823BC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8BF73D-813C-4ED8-B74E-32FDD962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F4BB64-0E26-4D76-BB2C-5CCD72DC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01CD9-A2C4-4E11-8071-CC1AAE09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03F61F-9E03-43A8-8ADA-D9AC1992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2FD911-0253-4C90-AE4C-7725541F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B2F49C-52FD-408F-ACC6-A91D0BEB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4DA2A-CF62-4311-91AC-05D3E234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93D4ED-77FD-4AA3-AD25-F0BCD130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CA30DC-EE8F-4AC0-AEFA-EA110AE1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3BF-1428-457C-9452-5462B0F8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D90B6B-438A-40BB-81F4-B64874DF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BC6C2-28C2-4844-93FC-6B46ED33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79A11-CF4A-4103-BE1D-F1D99EDD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AD6A3-5DC4-43F2-981A-03DD71AE0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5C628-CCBB-44B8-A936-A7A53CF7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28F55-30A4-47FF-8E65-3C903190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D061C-4A98-4AD1-B223-1ADE203E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7F9DC-98B9-4168-8983-CD5EF5A4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8EC98-53B0-4956-BA5B-3A5ED0C5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1B138-E066-41D6-B842-AB104AA1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EF8-D063-4FD1-BA29-960A84EB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C3402-8227-48DE-A7AB-142B8C08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4F1CB-A0AC-40CF-91B0-D4952C60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98F23-1B94-4383-8D22-7A123E60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83382B-92EC-4AC8-84FB-8ECD8F08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3400E1-15FD-463C-A2CA-A3124970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5B0732-20E8-4B4C-A56B-B5816CAC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C97BD5-D94D-4D9E-8ECB-B8D03DA0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2E1D85-332B-4C95-9E15-BBEB84E3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3C5D39-7B32-40CD-9464-1BF7EA85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66D4F7-64CF-4850-8FEC-954BFA47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FBC-931A-4F5D-8A24-F9E66CFD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3FEAA6-BFB2-4C4F-862A-6EE9E7BD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C20BE9-F107-4788-835F-3FA6CA75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B9EFB6-6069-4D7B-BB79-3838DC27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82F5B5-93E7-4493-A145-C0FF5CC6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020EE0-7AE3-448B-AAA7-C3FFEFA3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94FE6-DBD1-40C4-8CE1-2CD9634D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66EAB-DA32-4C1F-A21C-FDCE8507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03307-E5D5-46FC-A745-C0657ED7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D9EEC-C1A7-4E0B-B0AB-43C13EC4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2BC9E-23B4-48F9-9D5B-2E23F99C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33A7-F403-4B79-B743-D5CD2A2C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B8317-6230-480E-8CB2-D1E561D9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8DDF0-B152-464E-AA48-9EAA2C73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1506F-FA75-45D7-9540-3C87FEB1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BE443-6A91-4BBC-A603-70492D24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5B7ED-8E26-4DD5-BA97-222732AA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27618-A6B6-4762-9F18-2AF16257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BAEC7-E451-4B01-B6F0-1AC35FBB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1805-82C9-4EA5-8629-450B6B7921D3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4C9D-6460-4FCB-A99F-3575ECEE47D3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ded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3942-3F20-45F3-98D2-3C1725B37C43}" type="datetime">
              <a:rPr b="0" lang="fr-FR" sz="2000" spc="-1" strike="noStrike">
                <a:solidFill>
                  <a:srgbClr val="ffffff"/>
                </a:solidFill>
                <a:latin typeface="Tw Cen MT"/>
              </a:rPr>
              <a:t>28/07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e3ded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4E37-727D-4BFE-ABDA-C17AC30B7630}" type="slidenum">
              <a:rPr b="1" lang="fr-FR" sz="1400" spc="-1" strike="noStrike">
                <a:solidFill>
                  <a:srgbClr val="e3ded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729F-E09D-4C4B-A1C2-EFE5CD779CF0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9AE9-B383-42A2-BD6B-9504BCCC84A4}" type="slidenum">
              <a:rPr b="1" lang="fr-FR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1C85-0C71-4662-A5B4-512B1E7714FD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FFF9-9893-48D0-AFFD-89F1D4DB799F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F8BB-AC2C-4ED3-A03B-611C608FDECB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D780-39A3-4433-AD71-258E3CE10673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B29F-5CE4-4436-BE8B-6D31A0224FD2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5E31-3652-48CE-9EBD-A0B322D8E57E}" type="slidenum">
              <a:rPr b="1" lang="fr-FR" sz="1400" spc="-1" strike="noStrike">
                <a:solidFill>
                  <a:srgbClr val="323232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3D2A-5BBB-40EE-87D4-35F36A3E4860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5ADC-B77F-40FF-A05B-358BCBE3F31A}" type="slidenum">
              <a:rPr b="1" lang="fr-FR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A0E7-77F3-476E-ADD6-EB21C36DD1BE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76B2-07B8-46AD-9941-602324F2DA62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56920" y="1714680"/>
            <a:ext cx="5572440" cy="178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ded1"/>
                </a:solidFill>
                <a:latin typeface="Tw Cen MT"/>
              </a:rPr>
              <a:t>NUMERISATION </a:t>
            </a:r>
            <a:endParaRPr b="0" lang="en-US" sz="44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228564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0" y="857160"/>
            <a:ext cx="91440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5"/>
          <p:cNvSpPr/>
          <p:nvPr/>
        </p:nvSpPr>
        <p:spPr>
          <a:xfrm>
            <a:off x="2428920" y="6215040"/>
            <a:ext cx="657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w Cen MT"/>
              </a:rPr>
              <a:t>Spécialité ISN                                           Année 2012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6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9F8D-FE69-497F-BA2D-AD9CC9250A90}" type="slidenum">
              <a:rPr b="1" lang="fr-FR" sz="1400" spc="-1" strike="noStrike">
                <a:solidFill>
                  <a:srgbClr val="e3ded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1295280" cy="7524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642960" y="48578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http://www.pfast.fr/local/cache-vignettes/L450xH338/numerisation3-23c12.png"/>
          <p:cNvPicPr/>
          <p:nvPr/>
        </p:nvPicPr>
        <p:blipFill>
          <a:blip r:embed="rId3"/>
          <a:stretch/>
        </p:blipFill>
        <p:spPr>
          <a:xfrm>
            <a:off x="5786280" y="642960"/>
            <a:ext cx="30258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F426-7524-461F-AAF3-5905114D5F9C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5" descr=""/>
          <p:cNvPicPr/>
          <p:nvPr/>
        </p:nvPicPr>
        <p:blipFill>
          <a:blip r:embed="rId1"/>
          <a:stretch/>
        </p:blipFill>
        <p:spPr>
          <a:xfrm>
            <a:off x="2727360" y="1785960"/>
            <a:ext cx="3984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5815-2956-4543-972B-AD740C8A2663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527040" y="1714680"/>
            <a:ext cx="8116920" cy="41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85BC-0A58-4825-93F8-7546C7FF35D4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857160" y="2214720"/>
            <a:ext cx="7888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DE9D-1268-44AF-A048-7DB2DDBE3569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42960" y="2000160"/>
            <a:ext cx="8143920" cy="1300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928800" y="3786120"/>
            <a:ext cx="77454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09:36:47Z</dcterms:created>
  <dc:creator>Claire</dc:creator>
  <dc:description/>
  <dc:language>en-US</dc:language>
  <cp:lastModifiedBy>Proprietaire</cp:lastModifiedBy>
  <dcterms:modified xsi:type="dcterms:W3CDTF">2012-05-04T15:53:21Z</dcterms:modified>
  <cp:revision>84</cp:revision>
  <dc:subject/>
  <dc:title>Tracker solaire</dc:title>
</cp:coreProperties>
</file>